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8CAAA-3912-4F2F-B561-C8D53D226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1A5C5-D7D7-4CBC-8C44-7AEBAC977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BE055-BC14-4079-B142-65BD9C876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50C68-C54F-46D4-B8FF-F0D8D348C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7196F-79B8-474C-A168-E5EAE94B4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5C600-EF8F-4CCC-A70F-6E8468B4B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84E3F-85B8-4FB9-A033-5C6675B12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1EEFD-6BA8-4BC3-BC6A-8921E2CFC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A6FF0-008F-45B3-997B-0ED62F05A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8AAA5-3B84-438F-9E5D-DED74372B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EA42A-8371-4AAD-8935-2D0721670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456FA-0D51-4D5C-9CA2-1DBB9D064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22C7C-06C6-4149-82D0-6CE2889D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CF681-08D6-4EBF-B23E-D11657A4A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8E4AC-C732-4920-A37E-48A5FB363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39CF1-75F0-46E1-B2A3-C3DF43F3C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19F7F-1493-4ECF-84F1-54E1A7622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CE0E5-3276-4303-BB85-BB3366EB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0AD99-72DA-480D-9690-BE7EA3BC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BA229-388C-4DC7-88BE-E4F57BCD8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85160-A1A7-4223-B91A-E214C2983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07D2C-862E-4E0A-B6FA-5C846E457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F6501-E3DC-4357-83A6-C9B199AF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32E3A-06F4-4067-AA84-7875E2E7E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77AE-D9C1-4623-A89E-931CFCD8221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A015-588E-45CC-921C-7DC35CECFA0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366"/>
                </a:solidFill>
                <a:latin typeface="Arial"/>
              </a:rPr>
              <a:t>Children’s Criminal Proceedings Act 1987</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ffectiveness and Efficiency</a:t>
            </a:r>
            <a:br>
              <a:rPr sz="3200"/>
            </a:b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cy</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aged between ten and eightee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who commit serious criminal offen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egates less serious criminal offences to other authoritative bodies such as the Police who delegate warnings and cautio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ct has a lower recidivism rate than alternative remedies such as cautions</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Children may be young, but they are not always innocent…</a:t>
            </a:r>
            <a:endParaRPr b="1" lang="en-US" sz="2000" spc="-1" strike="noStrike">
              <a:solidFill>
                <a:srgbClr val="006666"/>
              </a:solidFill>
              <a:latin typeface="Arial"/>
            </a:endParaRPr>
          </a:p>
        </p:txBody>
      </p:sp>
      <p:pic>
        <p:nvPicPr>
          <p:cNvPr id="122" name="" descr=""/>
          <p:cNvPicPr/>
          <p:nvPr/>
        </p:nvPicPr>
        <p:blipFill>
          <a:blip r:embed="rId1"/>
          <a:stretch/>
        </p:blipFill>
        <p:spPr>
          <a:xfrm>
            <a:off x="1908000" y="2565360"/>
            <a:ext cx="5834160" cy="39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ider the two situations… </a:t>
            </a:r>
            <a:endParaRPr b="1" lang="en-US" sz="3600" spc="-1" strike="noStrike">
              <a:solidFill>
                <a:srgbClr val="006666"/>
              </a:solidFill>
              <a:latin typeface="Arial"/>
            </a:endParaRPr>
          </a:p>
        </p:txBody>
      </p:sp>
      <p:pic>
        <p:nvPicPr>
          <p:cNvPr id="98" name="" descr=""/>
          <p:cNvPicPr/>
          <p:nvPr/>
        </p:nvPicPr>
        <p:blipFill>
          <a:blip r:embed="rId1"/>
          <a:stretch/>
        </p:blipFill>
        <p:spPr>
          <a:xfrm>
            <a:off x="1258920" y="2852640"/>
            <a:ext cx="3429000" cy="3726000"/>
          </a:xfrm>
          <a:prstGeom prst="rect">
            <a:avLst/>
          </a:prstGeom>
          <a:ln w="0">
            <a:noFill/>
          </a:ln>
        </p:spPr>
      </p:pic>
      <p:sp>
        <p:nvSpPr>
          <p:cNvPr id="99" name=""/>
          <p:cNvSpPr/>
          <p:nvPr/>
        </p:nvSpPr>
        <p:spPr>
          <a:xfrm>
            <a:off x="1403280" y="5950080"/>
            <a:ext cx="30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5148360" y="5877000"/>
            <a:ext cx="30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1908000" y="234936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 year old male </a:t>
            </a:r>
            <a:endParaRPr b="0" lang="en-US" sz="1800" spc="-1" strike="noStrike">
              <a:solidFill>
                <a:srgbClr val="003366"/>
              </a:solidFill>
              <a:latin typeface="Arial"/>
            </a:endParaRPr>
          </a:p>
        </p:txBody>
      </p:sp>
      <p:sp>
        <p:nvSpPr>
          <p:cNvPr id="102" name=""/>
          <p:cNvSpPr/>
          <p:nvPr/>
        </p:nvSpPr>
        <p:spPr>
          <a:xfrm>
            <a:off x="565164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year old male  </a:t>
            </a:r>
            <a:endParaRPr b="0" lang="en-US" sz="1800" spc="-1" strike="noStrike">
              <a:solidFill>
                <a:srgbClr val="003366"/>
              </a:solidFill>
              <a:latin typeface="Arial"/>
            </a:endParaRPr>
          </a:p>
        </p:txBody>
      </p:sp>
      <p:pic>
        <p:nvPicPr>
          <p:cNvPr id="103" name="" descr=""/>
          <p:cNvPicPr/>
          <p:nvPr/>
        </p:nvPicPr>
        <p:blipFill>
          <a:blip r:embed="rId2"/>
          <a:stretch/>
        </p:blipFill>
        <p:spPr>
          <a:xfrm>
            <a:off x="5384880" y="2852640"/>
            <a:ext cx="2865240" cy="37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ve categori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ic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slaugh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e or sale of firear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xual Assa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li Incapex </a:t>
            </a:r>
            <a:br>
              <a:rPr sz="3200"/>
            </a:br>
            <a:r>
              <a:rPr b="1" lang="en-US" sz="1800" spc="-1" strike="noStrike">
                <a:solidFill>
                  <a:srgbClr val="006666"/>
                </a:solidFill>
                <a:latin typeface="Arial"/>
              </a:rPr>
              <a:t>(childs presumption of innocence)</a:t>
            </a:r>
            <a:br>
              <a:rPr sz="1800"/>
            </a:br>
            <a:endParaRPr b="1" lang="en-US" sz="18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that:</a:t>
            </a:r>
            <a:br>
              <a:rPr sz="2400"/>
            </a:br>
            <a:r>
              <a:rPr b="0" lang="en-US" sz="2400" spc="-1" strike="noStrike">
                <a:solidFill>
                  <a:srgbClr val="003366"/>
                </a:solidFill>
                <a:latin typeface="Arial"/>
              </a:rPr>
              <a:t>no child between the ages of ten and fourteen are held criminally responsible for their action unless the prosecution can prove that the accused acted with: </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nt</a:t>
            </a:r>
            <a:br>
              <a:rPr sz="2400"/>
            </a:br>
            <a:r>
              <a:rPr b="0" lang="en-US" sz="1400" spc="-1" strike="noStrike">
                <a:solidFill>
                  <a:srgbClr val="003366"/>
                </a:solidFill>
                <a:latin typeface="Arial"/>
              </a:rPr>
              <a:t>and</a:t>
            </a: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ood the consequences of their ac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LMW</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ctim: Corey Davis; six years ol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accused thrown into a river, unable to swim and drowne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Did the accused aged ten with a learning disability, understand the possible consequences of his ac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The state could not prove this was understood and therefore, no convic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ective? – provides justice for the individual (accused) as they had a learning disability and were protected by doli incapex</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t? – highlights the imbalance of the act; a life was lost which no one was held responsible fo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endmen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hibits the naming of children involved in serious criminal off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victim is killed, their names will be releas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 R V </a:t>
            </a:r>
            <a:r>
              <a:rPr b="0" lang="en-US" sz="2400" spc="-1" strike="noStrike" u="sng">
                <a:solidFill>
                  <a:srgbClr val="003366"/>
                </a:solidFill>
                <a:uFillTx/>
                <a:latin typeface="Arial"/>
              </a:rPr>
              <a:t>LMW</a:t>
            </a:r>
            <a:r>
              <a:rPr b="0" lang="en-US" sz="2400" spc="-1" strike="noStrike">
                <a:solidFill>
                  <a:srgbClr val="003366"/>
                </a:solidFill>
                <a:latin typeface="Arial"/>
              </a:rPr>
              <a:t>      name of accused hidden. </a:t>
            </a:r>
            <a:endParaRPr b="0" lang="en-US" sz="2400" spc="-1" strike="noStrike">
              <a:solidFill>
                <a:srgbClr val="003366"/>
              </a:solidFill>
              <a:latin typeface="Arial"/>
            </a:endParaRPr>
          </a:p>
        </p:txBody>
      </p:sp>
      <p:sp>
        <p:nvSpPr>
          <p:cNvPr id="112" name=""/>
          <p:cNvSpPr/>
          <p:nvPr/>
        </p:nvSpPr>
        <p:spPr>
          <a:xfrm>
            <a:off x="4067280" y="386064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SLD</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s youngest criminal – thirteen and ten months old.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the accused broke into a home, abducted a four year old (Courtney Clarke) stabbing her on the families drive way. The body was then thrown into some nearby grass, the evidence buried in a neighboring home, the blood washed from the driveway.</a:t>
            </a:r>
            <a:r>
              <a:rPr b="0" lang="en-US" sz="2800" spc="-1" strike="noStrike">
                <a:solidFill>
                  <a:srgbClr val="003366"/>
                </a:solidFill>
                <a:latin typeface="Arial"/>
              </a:rPr>
              <a:t> </a:t>
            </a:r>
            <a:r>
              <a:rPr b="0" lang="en-US" sz="2000" spc="-1" strike="noStrike">
                <a:solidFill>
                  <a:srgbClr val="003366"/>
                </a:solidFill>
                <a:latin typeface="Arial"/>
              </a:rPr>
              <a:t>Accused faced a 25 year sentenc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 Is thirteen and nine months to young for conviction of mu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Sentenced to twenty five years imprisonment with a non parole period of ten year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niel Owen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910640" cy="40194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ts: Upon arriving home, Daniel Owens was approached by two sixteen year olds who attempted to rob him asking for his wallet. Daniel caught unaware, was in shock and went to comply with the demand, however the two sixteen years olds acted quickly. Daniel Owens was brutally bashed to death by the two teenag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cision: One of the sixteen year olds was sentenced to fourteen years and three months imprisonment, the other is waiting to be trial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ive? Yes, the law was broken a sanction was enforc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t? Children’s Criminal Proceedings Act enabled society to achieve a just outcome as the accused found guilty was removed from society as he was considered a risk to the cohesion. The punishment was enforced regardless of the age of the accused, which follows the procedures of the Ac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ness and Efficiency</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ustice </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ho commit serious offences and found guilty are imprisoned just as adults would be.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ctims and their families are given justice through the conviction of a juvenile offender. </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irness</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ardless of age, sanctions apply</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children are given the greatest chance of representation and the court system applies ‘special policies’ (such as the explanation of everything within a courtroom) when dealing with children who commit serious offenc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ith special circumstances (in the case of R VLMW) are taken into consideration</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quity</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people are equal before the law</a:t>
            </a:r>
            <a:endParaRPr b="0" lang="en-US" sz="1800" spc="-1" strike="noStrike">
              <a:solidFill>
                <a:srgbClr val="003366"/>
              </a:solidFill>
              <a:latin typeface="Arial"/>
            </a:endParaRPr>
          </a:p>
          <a:p>
            <a:pPr marL="533520" indent="-5335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are dealt with equally, age bias is not a factor in considering the outcome of the law.</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6:21:58Z</dcterms:created>
  <dc:creator>Grace</dc:creator>
  <dc:description/>
  <dc:language>en-US</dc:language>
  <cp:lastModifiedBy>Grace</cp:lastModifiedBy>
  <dcterms:modified xsi:type="dcterms:W3CDTF">2010-03-15T08:11:44Z</dcterms:modified>
  <cp:revision>3</cp:revision>
  <dc:subject/>
  <dc:title> Children’s Criminal Proceedings Act 1987</dc:title>
</cp:coreProperties>
</file>