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76B-4C3C-4C9B-88A4-E8DC35437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180A-3CBE-4319-8690-B68B60C2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F2E-9425-4759-BCE2-78A517E67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2C7C-862A-460B-9131-A90DD5A4B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2952-56E7-4EAE-B74C-9F0F8BC1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FDA3-F849-4736-8C4B-FF7E2879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59C-B4D9-468D-9D6D-EB363C76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F202-C839-4077-9008-B7B54146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F2FD-807D-4DFA-B163-DC521C4F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D070-B6FF-4B24-9FCC-5AC8E6D8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85E1-B9DF-4E12-9123-F7842BB5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F729-11E3-4B94-96EB-1B040A40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BD110-38F6-4A24-82C7-0290D489B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849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ffender to be convicted of a criminal offence, at common law the prosecution usually mu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that actual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eatures of actus reu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act or omission actually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was done by the accus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commit the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shows that the mens rea must have been committed by a person with one of the following states of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ntion or specific desire to commit the act or omit the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klessness: the person could foresee the probability of harm, but acted any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ence: the person failed to exercise the degree of care, skill or foresight that a reasonable person would have exercised in the same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reckless or negligent there is an assumption of mens rea (int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rimes both actus reus and mens rea must be proved for the offender to be guilty of the of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trict liability cases: Strict liability means that no mens rea needs to be proved.  Many traffic offences are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If you speed, it only needs to be proved that you broke the speed limit – your state of mind at the time does not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secution must show that there is a link between the act and the crime committed as well as proving that the act had taken place. The act must be at least the substantial cause of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44:13Z</dcterms:created>
  <dc:creator>tfrostd</dc:creator>
  <dc:description/>
  <dc:language>en-US</dc:language>
  <cp:lastModifiedBy>SJC</cp:lastModifiedBy>
  <dcterms:modified xsi:type="dcterms:W3CDTF">2006-12-01T00:59:34Z</dcterms:modified>
  <cp:revision>11</cp:revision>
  <dc:subject/>
  <dc:title>Elements of Crime</dc:title>
</cp:coreProperties>
</file>