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9767-276D-44C0-B18F-534E32EE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0749-C603-4610-8637-374D0DDC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2E39-FF67-4A16-A153-C13F1AEF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786E-9360-4CDF-ADFC-C2B3B2BC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3D6B-AA5C-4857-BCDA-98041DC5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4D47-75A2-47B4-84EE-E9F27C39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19E3-4891-4C71-905C-4AF05405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5712-5695-49B7-A6AE-366BB2FD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CFBE-AD2C-4608-B3B8-C145BEB5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5AD-32C2-4DF0-9089-86B97304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7949-0A8A-46D9-AAE8-D89B3B00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587B-00A2-405F-A1F8-80138244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0707-549E-4C4D-8D3C-E93C584E2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Cr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59280" y="3500280"/>
            <a:ext cx="284940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 offender to be convicted of a criminal offence, at common law the prosecution usually must pr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s r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s 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us r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ed that actual off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ortant features of actus reu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the act or omission actually took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t was done by the accused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ntary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 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ded to commit the off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finition shows that the mens rea must have been committed by a person with one of the following states of mi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ntion or specific desire to commit the act or omit the du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klessness: the person could foresee the probability of harm, but acted any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igence: the person failed to exercise the degree of care, skill or foresight that a reasonable person would have exercised in the same circum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person is reckless or negligent there is an assumption of mens rea (inten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ost crimes both actus reus and mens rea must be proved for the offender to be guilty of the of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pt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trict liability cases: Strict liability means that no mens rea needs to be proved.  Many traffic offences are examp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If you speed, it only needs to be proved that you broke the speed limit – your state of mind at the time does not ma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osecution must show that there is a link between the act and the crime committed as well as proving that the act had taken place. The act must be at least the substantial cause of the cr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04:44:13Z</dcterms:created>
  <dc:creator>tfrostd</dc:creator>
  <dc:description/>
  <dc:language>en-US</dc:language>
  <cp:lastModifiedBy>SJC</cp:lastModifiedBy>
  <dcterms:modified xsi:type="dcterms:W3CDTF">2006-12-01T00:59:34Z</dcterms:modified>
  <cp:revision>11</cp:revision>
  <dc:subject/>
  <dc:title>Elements of Crime</dc:title>
</cp:coreProperties>
</file>