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441F-9347-4222-99DA-9BE16B86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45BF-7792-4190-9DA6-42A1781A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8409-C7D4-4E82-84E2-E486D43EA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1BE0-2E0B-4ADC-9424-8C5A7AFA0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B43A-E9DE-40BE-9F81-95B2289C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725E-E7ED-431B-96F9-64951C4A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B64C-72B7-4A2E-802C-7DED4D3A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5C3A-3EA9-4E3D-ADCF-8922348A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14E3-DBE9-44A6-BF19-F5E4ECEF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0677-C53C-4774-A3AD-3EB784D6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C758-FF49-4109-8C6E-36BD9974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1351-388F-422F-971F-41A37285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EF16-3A5E-4C83-BFAF-46C618DB5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 of Cr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59280" y="3500280"/>
            <a:ext cx="284940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n offender to be convicted of a criminal offence, at common law the prosecution usually must pr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s r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s 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us re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ed that actual off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ortant features of actus reu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the act or omission actually took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it was done by the accused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ntary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 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ded to commit the off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finition shows that the mens rea must have been committed by a person with one of the following states of mi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tention or specific desire to commit the act or omit the du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klessness: the person could foresee the probability of harm, but acted any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ligence: the person failed to exercise the degree of care, skill or foresight that a reasonable person would have exercised in the same circum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person is reckless or negligent there is an assumption of mens rea (inten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ost crimes both actus reus and mens rea must be proved for the offender to be guilty of the off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pt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trict liability cases: Strict liability means that no mens rea needs to be proved.  Many traffic offences are examp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If you speed, it only needs to be proved that you broke the speed limit – your state of mind at the time does not ma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osecution must show that there is a link between the act and the crime committed as well as proving that the act had taken place. The act must be at least the substantial cause of the cr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04:44:13Z</dcterms:created>
  <dc:creator>tfrostd</dc:creator>
  <dc:description/>
  <dc:language>en-US</dc:language>
  <cp:lastModifiedBy>SJC</cp:lastModifiedBy>
  <dcterms:modified xsi:type="dcterms:W3CDTF">2006-12-01T00:59:34Z</dcterms:modified>
  <cp:revision>11</cp:revision>
  <dc:subject/>
  <dc:title>Elements of Crime</dc:title>
</cp:coreProperties>
</file>