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98B-4D96-48D3-B36E-E99546DB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888-198E-4514-8CC9-07B3749B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A28-2763-49A4-9500-BCFB0592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CAA-FD88-4E04-B268-44F3420B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9C0-34E3-44A5-8DFF-AD41373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DC8-D3E4-4527-9371-92036170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D23-1713-4083-9D17-5A023013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5D1-97BB-498E-9920-F2EF9C9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CE7-06D8-492B-AACA-5B669427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E0B-B3B3-44A0-8D52-C016765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673-F245-4F66-9639-BD3C5A4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376-7BCB-4EF8-AD43-3F2E2535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870C-10CD-4BE1-840C-482C462A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849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ffender to be convicted of a criminal offence, at common law the prosecution usually mu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that actual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eatures of actus reu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act or omission actually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was done by the accused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commit the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tion shows that the mens rea must have been committed by a person with one of the following states of m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ntion or specific desire to commit the act or omit the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klessness: the person could foresee the probability of harm, but acted any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ence: the person failed to exercise the degree of care, skill or foresight that a reasonable person would have exercised in the same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reckless or negligent there is an assumption of mens rea (int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crimes both actus reus and mens rea must be proved for the offender to be guilty of the of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trict liability cases: Strict liability means that no mens rea needs to be proved.  Many traffic offences are exa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If you speed, it only needs to be proved that you broke the speed limit – your state of mind at the time does not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secution must show that there is a link between the act and the crime committed as well as proving that the act had taken place. The act must be at least the substantial cause of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4:44:13Z</dcterms:created>
  <dc:creator>tfrostd</dc:creator>
  <dc:description/>
  <dc:language>en-US</dc:language>
  <cp:lastModifiedBy>SJC</cp:lastModifiedBy>
  <dcterms:modified xsi:type="dcterms:W3CDTF">2006-12-01T00:59:34Z</dcterms:modified>
  <cp:revision>11</cp:revision>
  <dc:subject/>
  <dc:title>Elements of Crime</dc:title>
</cp:coreProperties>
</file>