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81A-A560-4B79-AAFA-CFE081D68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2FE8-FD96-49AA-8C28-62BE8E5A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87DC-6B7B-44BC-B7C9-9B242CEA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99AD-E8C3-46DC-8851-7FF16BC3E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0B32-B8F5-4BF1-92A4-E2CD722C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E9F-344D-471A-AA7D-AD7D9739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78DC-C40B-4CB3-A4B2-C1D690502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A17A-3D6D-40A5-838A-287A0497C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947-C4CB-4AD3-B90F-3C268682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E0EA-95CE-43B5-802C-B1BDBE2C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E21-9ADB-4EF6-8A44-1BE0F114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6922-08AA-4B7E-85A0-D8B9F512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33B0A-EC38-412D-9678-AAF89B421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s of Cr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59280" y="3500280"/>
            <a:ext cx="2849400" cy="20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n offender to be convicted of a criminal offence, at common law the prosecution usually mu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us r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s 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us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that actual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portant features of actus reus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the act or omission actually took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it was done by the accused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ntar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 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nded to commit the of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inition shows that the mens rea must have been committed by a person with one of the following states of mi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tention or specific desire to commit the act or omit the d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klessness: the person could foresee the probability of harm, but acted anyw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ence: the person failed to exercise the degree of care, skill or foresight that a reasonable person would have exercised in the same circumst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erson is reckless or negligent there is an assumption of mens rea (inten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ost crimes both actus reus and mens rea must be proved for the offender to be guilty of the of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ept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trict liability cases: Strict liability means that no mens rea needs to be proved.  Many traffic offences are examp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g. If you speed, it only needs to be proved that you broke the speed limit – your state of mind at the time does not ma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prosecution must show that there is a link between the act and the crime committed as well as proving that the act had taken place. The act must be at least the substantial cause of the c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04:44:13Z</dcterms:created>
  <dc:creator>tfrostd</dc:creator>
  <dc:description/>
  <dc:language>en-US</dc:language>
  <cp:lastModifiedBy>SJC</cp:lastModifiedBy>
  <dcterms:modified xsi:type="dcterms:W3CDTF">2006-12-01T00:59:34Z</dcterms:modified>
  <cp:revision>11</cp:revision>
  <dc:subject/>
  <dc:title>Elements of Crime</dc:title>
</cp:coreProperties>
</file>