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5DFB-C04B-44FB-85B8-ABAB5B3D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E94E-3D9A-4297-B607-9BCCDD71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DCC-3BB0-4137-9962-E2CD8E0B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429-A96F-427B-922B-CBA27863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BAB8-E616-49FE-87D3-DB40CBC1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3417-4889-44EF-A3BC-C7E19B2B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1692-13E9-46B1-8F51-B4341D12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2E45-4B64-4E98-9F0B-D5572163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5A1D-FE24-4C9B-B3DD-24F1982F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2FC-B9AE-4B24-83BA-651FC95C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6C4-8364-4D61-A9F3-2E35174D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1BF9-064D-4E87-AB48-278FFAAA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E98F-9A67-4C32-98E5-B2C252810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Cr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59280" y="3500280"/>
            <a:ext cx="28494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 offender to be convicted of a criminal offence, at common law the prosecution usually must pr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s r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s 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us r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that actual off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ortant features of actus reu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act or omission actually took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t was done by the accused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ntary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 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ded to commit the off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finition shows that the mens rea must have been committed by a person with one of the following states of m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ntion or specific desire to commit the act or omit the du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klessness: the person could foresee the probability of harm, but acted any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gence: the person failed to exercise the degree of care, skill or foresight that a reasonable person would have exercised in the same circum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person is reckless or negligent there is an assumption of mens rea (inten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ost crimes both actus reus and mens rea must be proved for the offender to be guilty of the of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trict liability cases: Strict liability means that no mens rea needs to be proved.  Many traffic offences are examp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If you speed, it only needs to be proved that you broke the speed limit – your state of mind at the time does not ma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secution must show that there is a link between the act and the crime committed as well as proving that the act had taken place. The act must be at least the substantial cause of the c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04:44:13Z</dcterms:created>
  <dc:creator>tfrostd</dc:creator>
  <dc:description/>
  <dc:language>en-US</dc:language>
  <cp:lastModifiedBy>SJC</cp:lastModifiedBy>
  <dcterms:modified xsi:type="dcterms:W3CDTF">2006-12-01T00:59:34Z</dcterms:modified>
  <cp:revision>11</cp:revision>
  <dc:subject/>
  <dc:title>Elements of Crime</dc:title>
</cp:coreProperties>
</file>