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6C0-52D8-4CDC-A32B-8CE118FC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70D-678B-42C2-952A-E6597193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0F3-F645-4BBD-977B-F631CB09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D5C-ADC7-4E9B-81A9-28CE4B28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37CF-E6F8-4B95-9D63-CAB4BA36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84C2-BF6F-4ABC-AD44-18D5417E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6A0F-6F17-4BE6-A03F-AC9FDB71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9571-3198-4614-B10A-D56CDB9C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313F-D590-4AA5-841E-BF67C29E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10B2-7018-4EE4-9FD9-B0AE57AA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6632-0A0F-4E89-AAED-160D57CF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90E-7BE1-4883-9A7C-13ECB452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9EF8-E91A-4107-9040-821091D2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203F-0593-4434-B0C2-9321FD32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726A-F59E-4F1B-89B2-10AEE340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E8E4-145D-4A51-9AB2-BC447FEB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7509-E40C-4805-AD89-4CA7B560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594-7EDD-4776-A507-52332062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AC3-4ED7-4FB8-97EF-1C54AD08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B97-098C-4B8F-8A8F-58A197BB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308-8867-4DBE-A8CE-B8EA820F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ADA-03A3-4948-96CD-55D865B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832-0492-4C51-A1A8-E5F87A2A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090-9690-4E5D-A42F-FF195524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6A27-656A-4F34-9B12-BACADB61B2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64A2-BA5E-4F05-9A84-9A102FF588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Factors affecting definition of crime and criminal behaviour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minal behaviour is defined by what is in statut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uses of Criminal Behaviou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association the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 interest and gr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’s peers and social status can influence their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lth provides choice and quality of life, therefore there is great pressure to own, and to achieve a high material standard of li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litic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maybe influenced by the views about the government or have an opposing ide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fferential association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the theory that criminal behaviour is learned and is a normal adaptation to the environment in which the offender l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mi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nder is socially alienated and therefore operates outside social n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an individual is accepted by a group whose value system is not that of main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tic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past it was believed criminals were born, not made. Eg skull size and sh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cientists have claimed that men with an extra male, or Y, chromosome (XYY) may be more likely to commit criminal acts than the general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can be said that some people commit more crimes than others because of their genetic make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2:28:14Z</dcterms:created>
  <dc:creator>SJC</dc:creator>
  <dc:description/>
  <dc:language>en-US</dc:language>
  <cp:lastModifiedBy>SJC</cp:lastModifiedBy>
  <dcterms:modified xsi:type="dcterms:W3CDTF">2006-02-02T23:48:20Z</dcterms:modified>
  <cp:revision>3</cp:revision>
  <dc:subject/>
  <dc:title>Factors affecting definition of crime and criminal behaviour</dc:title>
</cp:coreProperties>
</file>