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365-3F3D-45E5-9959-9C2E4319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2F6-9FCA-4B5A-A1E5-AB2A3793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D87-11CE-454F-AE45-F4CA8EE1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561-614F-40CA-9766-47CDC3E8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D1B7-ADA2-4F70-8FD4-8C709166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DEA5-E409-4087-BEA5-BA549A42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8A76-292D-457A-840B-5EAE2F30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E8DB-F35F-48D9-8FD4-8788B3FD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BD25-4FB2-4557-BD6C-A059AD58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53BE-28A2-45A4-BF93-4B06C3D7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CA3C-39EF-4846-8CDD-976DDEFB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9860-E5E6-45F1-91C5-B6458023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50DC-B548-45E8-AB5B-03E39580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E37C-50EE-427D-90F0-15BD1098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096E-B219-49A1-99C4-391FFCF0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755C-C76B-4D4C-8ECC-F377FF23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EED8-B6F1-4723-B946-589B9655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AF1-F9F6-4619-A08D-CF072044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D7A2-9790-4ED3-903A-FB2E1B90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C98-FB27-40A6-98B2-6258DBBD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23B-A6FD-4D92-A9E6-0A966EE8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EA6-8392-4585-BC5A-FEA6080A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981-C35A-444F-B059-87851F37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840-9C3F-4519-B5FC-652C92EA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D6CE-1DBA-4140-BDD9-92A80B46214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C625-CE32-4971-9A0D-F380FEA3AB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Factors affecting definition of crime and criminal behaviour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minal behaviour is defined by what is in statut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uses of Criminal Behaviou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onomic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al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l association the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 interest and gr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tic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’s peers and social status can influence their behavi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conomic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lth provides choice and quality of life, therefore there is great pressure to own, and to achieve a high material standard of li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litic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 maybe influenced by the views about the government or have an opposing ide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fferential association theor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d on the theory that criminal behaviour is learned and is a normal adaptation to the environment in which the offender l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mie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ender is socially alienated and therefore operates outside social no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culture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an individual is accepted by a group whose value system is not that of mainstr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enetic theor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past it was believed criminals were born, not made. Eg skull size and sha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cientists have claimed that men with an extra male, or Y, chromosome (XYY) may be more likely to commit criminal acts than the general pop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st can be said that some people commit more crimes than others because of their genetic make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02:28:14Z</dcterms:created>
  <dc:creator>SJC</dc:creator>
  <dc:description/>
  <dc:language>en-US</dc:language>
  <cp:lastModifiedBy>SJC</cp:lastModifiedBy>
  <dcterms:modified xsi:type="dcterms:W3CDTF">2006-02-02T23:48:20Z</dcterms:modified>
  <cp:revision>3</cp:revision>
  <dc:subject/>
  <dc:title>Factors affecting definition of crime and criminal behaviour</dc:title>
</cp:coreProperties>
</file>