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BE4E-F75E-4327-904D-3B2095E3C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F5D-F9C4-4F9D-A2E7-0179F378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6CC-233C-4FCC-815E-A29B671EF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563-551E-452C-BAB4-5DFB913FE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2D11-85A5-4825-BE53-8E2C72C4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DED2-1882-49DB-99A8-ABD2AD413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F212-6ED0-44B3-BC62-35C301FD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6810E-C1C1-45CF-A29D-E0CFEF29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7824-2EE3-435D-8538-09F6485EB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45F9-AC24-489A-946B-74B35D1B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0973-F920-49A9-BCA1-5F484ADA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2CE-C292-497A-AF76-112C0F86C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6714C-1768-42D5-A0DE-737A1C3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AC3E-A2D8-43D2-838F-BCB3D5F7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CFB3-8452-497F-B6D0-85992C01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6E87-337F-4CEA-A572-0078794F7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319F-02B0-4B98-8365-7EA3867B3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BB80-359D-41A2-8DF1-5EECA591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64F-672D-478C-A65B-A563AAB4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0BC-8938-4353-8C42-25737FF0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DEFD-EF4C-4930-AB86-C5232451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D71-FCD9-4E81-A603-A2C674B5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246-A149-4EBA-83A6-D84EE749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D17C-E439-4DD1-BF43-8545BD9B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6DEA0-8A39-4AEC-B121-C2271E8D6B2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50E68-6061-46F9-BEFA-A7AB02D61A4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Factors affecting definition of crime and criminal behaviour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minal behaviour is defined by what is in statut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uses of Criminal Behaviou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association the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interest and 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’s peers and social status can influence their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 provides choice and quality of life, therefore there is great pressure to own, and to achieve a high material standard of li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litic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maybe influenced by the views about the government or have an opposing ide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ferential association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the theory that criminal behaviour is learned and is a normal adaptation to the environment in which the offender l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mi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nder is socially alienated and therefore operates outside social n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an individual is accepted by a group whose value system is not that of main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tic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past it was believed criminals were born, not made. Eg skull size and sh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cientists have claimed that men with an extra male, or Y, chromosome (XYY) may be more likely to commit criminal acts than the general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can be said that some people commit more crimes than others because of their genetic make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2:28:14Z</dcterms:created>
  <dc:creator>SJC</dc:creator>
  <dc:description/>
  <dc:language>en-US</dc:language>
  <cp:lastModifiedBy>SJC</cp:lastModifiedBy>
  <dcterms:modified xsi:type="dcterms:W3CDTF">2006-02-02T23:48:20Z</dcterms:modified>
  <cp:revision>3</cp:revision>
  <dc:subject/>
  <dc:title>Factors affecting definition of crime and criminal behaviour</dc:title>
</cp:coreProperties>
</file>