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77B-8663-4C1B-B874-8C516D61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F7A-A7BB-4FDA-A58A-C242B891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208-5C46-4FE6-85AC-7699EAB1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A1D-B108-4CE1-94DE-23FFF5EB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6533-9762-4A2E-B8D8-8B233796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1517-D667-4C89-91B7-22870C63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95A4-E151-4892-B261-BC3787BC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A859-862D-4DB6-AE9C-5F2CF3C2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FCC6-9026-42CE-A861-DAEA47CB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24DF-E9C5-4CA8-91B5-8EAD9B4E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C488-DB96-4845-8371-5E9EB8AA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2A8-32A6-4674-8398-235E198D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D5B8-9AAC-43C1-A7B5-16C69612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6225-8FED-4522-A141-2B885D73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DD96-857C-4283-9EEC-638ABA5B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1AE3-85C3-4108-8FA8-475EC591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BA85-706A-49B7-B5A0-32EF14D7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CB2-C7EB-4226-B042-AA226700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050-D22C-4E64-B38F-85EAE778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672-7680-43E5-9C03-C20BD95E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6C5-4445-494C-96BB-A429B4E5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B82F-ECE7-4ED7-9165-815EA5A4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000-8D74-47C2-96AD-3E89D4FE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EDA-FA3F-4251-95DC-7E2EE119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C4FC-74CE-467F-8573-A12073ED432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F31A-C64F-4C91-92C4-32FED138656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Factors affecting definition of crime and criminal behaviour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minal behaviour is defined by what is in statut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uses of Criminal Behaviou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onomic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l association the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 interest and gr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tic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’s peers and social status can influence their behavi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conomic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lth provides choice and quality of life, therefore there is great pressure to own, and to achieve a high material standard of li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litic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 maybe influenced by the views about the government or have an opposing ide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fferential association theor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d on the theory that criminal behaviour is learned and is a normal adaptation to the environment in which the offender l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mie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ender is socially alienated and therefore operates outside social no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culture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an individual is accepted by a group whose value system is not that of mainstr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netic theor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past it was believed criminals were born, not made. Eg skull size and sha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cientists have claimed that men with an extra male, or Y, chromosome (XYY) may be more likely to commit criminal acts than the general pop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st can be said that some people commit more crimes than others because of their genetic make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02:28:14Z</dcterms:created>
  <dc:creator>SJC</dc:creator>
  <dc:description/>
  <dc:language>en-US</dc:language>
  <cp:lastModifiedBy>SJC</cp:lastModifiedBy>
  <dcterms:modified xsi:type="dcterms:W3CDTF">2006-02-02T23:48:20Z</dcterms:modified>
  <cp:revision>3</cp:revision>
  <dc:subject/>
  <dc:title>Factors affecting definition of crime and criminal behaviour</dc:title>
</cp:coreProperties>
</file>