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6A4-CDAE-4D26-8039-F1057D152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CA8-CEBD-41AA-8067-20FE2E5E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3C68-493B-461E-9B8F-5C450FBE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399A-43E1-4510-BD70-F21F4E93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9220-5058-4012-94CF-FFE69C56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742CF-A5FA-4FBF-83C1-E881BDEF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09C0-33BD-48DF-BE32-47BF2A4C7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3E05-CA00-4788-AEE9-C95430E8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FE354-6F1A-4542-9AB8-88705F55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342F-D51A-4720-B14F-2C353B0E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6198-295D-47DE-B156-8D6745D7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E23F-6FAF-4653-9114-F895E7494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AD383-458C-491F-8B16-E7D65D72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C0FE-8CE0-4BFD-9AC3-F1F61AB8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B7666-1D78-4AEE-BDA4-CF98519C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915C-2714-4912-AED3-7AED4BD8D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A0C9-50BA-4E40-8FF9-DFFAEEA5C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8FC-36E1-4A37-9CFE-E7F2DA53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9C95-E592-44BF-9B9E-69C1A77C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966-99DC-4B43-95E7-1DDC2F31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610E-EDAF-49EE-A1EF-7B9F1E18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E93-0683-42CD-B08A-708EA98F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5AB2-E0ED-470A-8C96-18E42228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ACE5-2C7B-4723-B5F5-9F302670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4532-7CAC-4D3C-ACA0-9051CC5567C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F462-A783-4C77-ADCD-1B12BA0F68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Factors affecting definition of crime and criminal behaviour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riminal behaviour is defined by what is in statute la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auses of Criminal Behaviour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ci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conomic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tical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fferential association theo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f interest and gre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netic f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oci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’s peers and social status can influence their behavio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conomic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alth provides choice and quality of life, therefore there is great pressure to own, and to achieve a high material standard of li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olitical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person maybe influenced by the views about the government or have an opposing ide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ifferential association theor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sed on the theory that criminal behaviour is learned and is a normal adaptation to the environment in which the offender liv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omie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ffender is socially alienated and therefore operates outside social nor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bculture the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here an individual is accepted by a group whose value system is not that of mainstre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Genetic theor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past it was believed criminals were born, not made. Eg skull size and shap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ome scientists have claimed that men with an extra male, or Y, chromosome (XYY) may be more likely to commit criminal acts than the general pop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can be said that some people commit more crimes than others because of their genetic make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02:28:14Z</dcterms:created>
  <dc:creator>SJC</dc:creator>
  <dc:description/>
  <dc:language>en-US</dc:language>
  <cp:lastModifiedBy>SJC</cp:lastModifiedBy>
  <dcterms:modified xsi:type="dcterms:W3CDTF">2006-02-02T23:48:20Z</dcterms:modified>
  <cp:revision>3</cp:revision>
  <dc:subject/>
  <dc:title>Factors affecting definition of crime and criminal behaviour</dc:title>
</cp:coreProperties>
</file>