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35204-6A61-40A6-8F47-F630EC8C90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8F9C92-C50D-4DBF-93C6-93743B2B5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C6699D-925B-4CB3-9785-6A84109FE0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FC4A6D-33F9-47F4-B9D0-BFEC8C73A9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7529F5-8DA8-4EED-A9E5-70DCFB6957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9D9B6D-B9F1-4BE5-8994-15371163C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44C8BF-BF25-4BC6-B882-1CF3BC1CF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C7C4C-EC02-4F17-8060-2EB853E2EC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487B0E-E2A0-4BEE-9E93-4802DF2FE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22B434-2353-4A13-955D-F7C53CB34B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B70398-76C5-4707-8BFA-10B320487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599F9D-37C2-48D9-BC4D-A80FDB449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7E1E5F-9A3B-476E-AEE4-178BEC27E0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7BE5D4-446A-4E4D-A9EE-D77C0EE7D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A647E0-C23C-4C6E-B6D4-443353195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6EF05-C17E-49A4-81D0-5488DA2810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D86358F-FF30-462B-AFEE-26AC1EF0C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7C6035-C592-4A38-A155-0F9D52FC8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3EC9D-4C48-403F-9384-99E10DC27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1873F-7104-46C2-984E-92A6A3E85F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483FC-23A5-4CA5-A66B-4D4B36998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72A71-DFD3-4820-A92B-8CFD274621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3E033-74A8-4644-B28D-C61F9CCC3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F7DF7-4AB4-4B93-9837-6AC62B2959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33779-C4CD-477E-B905-9B391F8BA85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52BCA-39E7-458F-9444-156C7B0099D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scretion in the Criminal Justice System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556000" y="2133720"/>
            <a:ext cx="4105080" cy="410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Opportunity for appeal:</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f the accused feels the law has treated them unfairly they are provided with the right or discretion to appeal.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imilarly, the prosecutor has the discretion to use the appeal process where they consider justice is not present in a decision.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The balance of individual and community rights and values:</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is often seen to be favouring one side of a case and therefore can often cause an imbalance between the rights of society and the individual</a:t>
            </a:r>
            <a:endParaRPr b="0" lang="en-US" sz="2600" spc="-1" strike="noStrike">
              <a:solidFill>
                <a:srgbClr val="ffffff"/>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clusion</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by all the parties to the criminal justice system is an important element in achieving justice.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is beneficial to the efficiency and effectiveness of the legal system when applied with the values of equity and fairness in mind. </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End.</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4"/>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aning of Discretion</a:t>
            </a: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guilt or innoc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sentenc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arties Impacted by Discretion in the Criminal Justice System</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or magistrat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ecuto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i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ctim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legal author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 of Discretion </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legal authorities to adjust and apply law in a way which best suits the situ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buse of discre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ome cases, where the ideals of law are ignored, the application of discretion can cause an overall abuse of pow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here that the efficiency and effectiveness of discretion to both individuals and society can wa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valuating the application of discretion to the individual</a:t>
            </a:r>
            <a:endParaRPr b="1" lang="en-US" sz="40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implementation of discretion is done so with the goal to achieve equality and justice in all areas of the criminal justice system</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allows the judge to take into account individual situations as well as examining any mitigating or aggravating circumstances involved in a cas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Crimes (sentencing procedures) Act 1999 (NSW) limits judicial discretion by setting guidelines for judges to abide by</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907560"/>
            <a:ext cx="7543800" cy="518796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ccess to discretion:  </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priate access for all individuals is important to ensure justice and equity prevails in the criminal justice system</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st of legal representation maybe prohibitive to some individuals, which may restrict their ability to obtain fair representation and access to the benefits of discretion in a criminal tri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5"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nforcing Discretion:</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 role of judicial discretion is to decide on a punishment, depending on the events of a case and must also be consistent with previous decisions and with the Crimes (sentencing procedures) Act 1999</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Resource efficiency:</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many criminal cases a police officer or person of legal authority will use discretion in order to determine whether or not an individual case should be sent to court for tr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valuating the application of discretion to Society</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6166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Reflecting society values in discretion: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a criminal case it is not only legal notions that determine how discretion is applied but also the moral beliefs of the society or individual enforcing discretion.</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edia article: “public bays for blood but the story is a fraught on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judicial error” caused an uproar in society as societal morals were not reflected in the application of discretion and it was perceived that discretion was not applied effectively in this case. </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5:00:00Z</dcterms:created>
  <dc:creator>Pinch</dc:creator>
  <dc:description/>
  <dc:language>en-US</dc:language>
  <cp:lastModifiedBy>Pinch</cp:lastModifiedBy>
  <dcterms:modified xsi:type="dcterms:W3CDTF">2010-03-15T09:53:56Z</dcterms:modified>
  <cp:revision>9</cp:revision>
  <dc:subject/>
  <dc:title>Slide 1</dc:title>
</cp:coreProperties>
</file>