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usticeblu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ndatory Sentenc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lotte Bak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C Legal Stud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BENY AND TAHI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wo poor farmers were convicted of people smuggling receiving five year jail term, minimum to serve three ye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Boat exploded off the shore of Northern Terri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itigating situation: bribed AUS$540, unaware of consequences resulting in the two men becoming victims themselv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REFOR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asmania is discussing the introduction of public officer assault laws, similar to those in Western Australia.</a:t>
            </a:r>
            <a:r>
              <a:rPr b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(Mandatory sentencing for assaults against police and emergency service worker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CRITICISM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andatory sentencing has received criticism from many highly recognised legal bodi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ustralian Lawyers Al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ustralian Institute for Crimi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ustralian Human Rights Com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awyers and judges from all of the country and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ime Minister Kevin Ru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FFECTIVENESS OF THE JUSTICE SYSTEM-NEGATI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Reduces an individual’s access to the legal syste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ses spend longer being he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ess guilty pl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oes not allow for mitigating circumstance to be considered within sentenc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FFECTIVENESS OF THE JUSTICE SYSTEM-NEGATIVE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Removes judicial discretion within the sentencing proces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Retention of judicial discretion in the sentencing of offenders was a cardinal principle of any democratic society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hair of the </a:t>
            </a:r>
            <a:r>
              <a:rPr b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Australian Lawyers Allian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ore expensive, increases numbers in jail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Higher demand and pressure within jai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FFECTIVENESS OF THE JUSTICE SYSTEM-NEGATIVE I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International Covenant on Civil and Political Rights (ICCPR)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rovides that sentences must be </a:t>
            </a: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reviewable by a higher tribunal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his is broken under mandatory sentencing legislation in Western Austral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FFECTIVENESS OF THE JUSTICE SYSTEM- POSITI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ndividuals have an increased feeling of prot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Harsher punishments deter some individuals from committing cr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Western Australian “three strikes and you’re out” laws deter previous offenders from reoffe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FFECTIVENESS OF THE JUSTICE SYSTEM- POSITIVE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Consistency within sentencing, as the penalties for a written law is the same for each individual- equality of outco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Creates inequality as circumstances are not always the same, and therefore the penalty should not always be the sa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datory sentencing refers to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ctice of parliament setting a fix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enalty for the commission of 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articular criminal offenc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The Australian Institute for Criminology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Began in Australian in the Northern Territory in 1995, with mandatory sentencing for property off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irst introduced in the United States of America in 1952, for various drug offences under the </a:t>
            </a:r>
            <a:r>
              <a:rPr b="1" i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Boggs A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Britain in 1965, introduced mandatory life imprisonment for murder after the abolishment of the death penalty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WESTERN AUSTRAL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Criminal Code Amendment (No. 2) Act 1996 (W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14 days for the first offence, 28 days for the second offence and one year for the third off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roperty offences include: burglary, breaking and entering and robb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WESTERN AUSTRALIA I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Criminal Code Amendment Act 2009 (W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Mandatory gaol term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6 months- bodily harm public offic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1 year- grievous bodily harm to public offic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ublic officer: police officers, paramedics, prison guards and public transport gua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NEW SOUTH WA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Crimes Amendment (Mandatory Life Sentences) Act 1996 (NSW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Mandatory life imprisonment for the trafficking of a commercial amount of heroin or coc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Only imposed if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ct involved a high degree of planning and organ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 number of people under the offender’s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offender must be solely or principally responsible for planning, organising and financing the off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ffender only committed the offence for financial re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cocaine or heroin was of a high p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NORTHERN TERRITO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 u="sng">
                <a:solidFill>
                  <a:srgbClr val="ffffff"/>
                </a:solidFill>
                <a:uFillTx/>
                <a:latin typeface="Arial"/>
              </a:rPr>
              <a:t>Sentencing Act 1995 (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A term of imprisonment for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Violent offences such as: assault, aggravated assault, attempted murder and aggravated robb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xual offences such as: sexual assault and aggravated sexual assaul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LIFE FOR MURD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any states have mandatory life imprisonment for the offence of murde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orthern Territory </a:t>
            </a:r>
            <a:r>
              <a:rPr b="0" i="1" lang="en-AU" sz="2400" spc="-1" strike="noStrike" u="sng">
                <a:solidFill>
                  <a:srgbClr val="ffffff"/>
                </a:solidFill>
                <a:uFillTx/>
                <a:latin typeface="Arial"/>
              </a:rPr>
              <a:t>Sentencing Act 1995 (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outh Australia </a:t>
            </a:r>
            <a:r>
              <a:rPr b="0" i="1" lang="en-AU" sz="2400" spc="-1" strike="noStrike" u="sng">
                <a:solidFill>
                  <a:srgbClr val="ffffff"/>
                </a:solidFill>
                <a:uFillTx/>
                <a:latin typeface="Arial"/>
              </a:rPr>
              <a:t>Criminal Law (Sentencing) (Dangerous Offenders) Amendment Bill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Queensland </a:t>
            </a:r>
            <a:r>
              <a:rPr b="0" i="1" lang="en-AU" sz="2400" spc="-1" strike="noStrike" u="sng">
                <a:solidFill>
                  <a:srgbClr val="ffffff"/>
                </a:solidFill>
                <a:uFillTx/>
                <a:latin typeface="Arial"/>
              </a:rPr>
              <a:t>Criminal Code 1989 section 3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ew South Wales </a:t>
            </a:r>
            <a:r>
              <a:rPr b="0" i="1" lang="en-AU" sz="2400" spc="-1" strike="noStrike" u="sng">
                <a:solidFill>
                  <a:srgbClr val="ffffff"/>
                </a:solidFill>
                <a:uFillTx/>
                <a:latin typeface="Arial"/>
              </a:rPr>
              <a:t>Crimes Amendment (Mandatory Life Sentences) Act 1996 (NS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FEDER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 u="sng">
                <a:solidFill>
                  <a:srgbClr val="ffffff"/>
                </a:solidFill>
                <a:uFillTx/>
                <a:latin typeface="Arial"/>
              </a:rPr>
              <a:t>Crimes Legislation Amendment (People Smuggling, Firearms Trafficking and Other Measures) Bill 200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If an adult is convicted of people smuggling asylum seekers to Australia they will recei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mandatory minimum of 3 years imprisonment for their first off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mandatory minimum of 5 years for their second off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6:45:53Z</dcterms:created>
  <dc:creator>Charlotte</dc:creator>
  <dc:description/>
  <dc:language>en-US</dc:language>
  <cp:lastModifiedBy>Charlotte</cp:lastModifiedBy>
  <dcterms:modified xsi:type="dcterms:W3CDTF">2010-03-15T06:20:00Z</dcterms:modified>
  <cp:revision>6</cp:revision>
  <dc:subject/>
  <dc:title>Mandatory Sentenc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2181033</vt:lpwstr>
  </property>
</Properties>
</file>