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2D26-8AC9-4DCD-947A-732E5B473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360E-C72E-4EEB-9FAA-61E4E6F7A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68F-1C46-4410-8E1C-8112BF99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87CB-9BB4-4406-8E31-F0FBC348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379-4B8C-4A19-B980-63C0F240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618-656E-4D80-95D4-BADB55F71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071E-8F36-40CD-B25D-4E0267669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9DD1-F89F-4CCD-B7BE-A42000CE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6291-7AD8-4BD2-A630-AA2BB638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CFB8-B769-4BE5-BE09-F4CFEFB5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EB0-DCEA-4B3B-BC61-8EBABD52F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3860-70C1-4ED0-B62D-95ECB362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A569-AC3A-464A-A25F-BFD2F0A07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alties No Longer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72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punishment is when a guilty person is put to death. The main forms of execution are the electric chair, gas chamber, lethal injection, firing squad and 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no longer allows capital punishment. Ronald Ryan who was executed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ruary 1967 was the last person to receive capital punishment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untries still allow capital punishment and debate continues in Australia on whether it should be reintrodu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points for and against capital punish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2808360" cy="23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l punishment is the infliction of physical injury. For example caning, strapping. It is generally outlawed i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alties that Infringe Human Right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ies that infringe human rights are punishments that are cruel and unusual. For example torture, unlawful detention, death penalties and mandatory sente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7 of International Covenant of Civil and Political Rights bans such penalties. Australia is a sig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5829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0:45:24Z</dcterms:created>
  <dc:creator>tfrostd</dc:creator>
  <dc:description/>
  <dc:language>en-US</dc:language>
  <cp:lastModifiedBy>mbee</cp:lastModifiedBy>
  <dcterms:modified xsi:type="dcterms:W3CDTF">2005-03-11T02:26:58Z</dcterms:modified>
  <cp:revision>4</cp:revision>
  <dc:subject/>
  <dc:title>Penalties No Longer Available</dc:title>
</cp:coreProperties>
</file>