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7C5-AB53-4216-922B-577BC7FB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E7B-A9FA-497F-BD70-B34719C6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43C-87FD-4BCB-8D06-38F4FBA7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58B-BD59-4CE8-9EF5-F07CE6D5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1E0-2216-4EDC-9C5E-130B1D9F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35B-D3BC-4264-BCA4-FE9CC292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D5C-9553-4B83-8BB8-2CFC73B1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E8A-34C0-4EC4-82D2-5716A488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CA16-38F2-4172-9629-6367A73F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FEB-A9C2-4662-A6A4-9297C14A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37B-4C05-4BBB-AAF2-8775A572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BFD5-D982-4BB6-811D-EE44170B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031B-0E02-43B4-8606-66A301A57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alties No Longer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2724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 Pun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punishment is when a guilty person is put to death. The main forms of execution are the electric chair, gas chamber, lethal injection, firing squad and 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no longer allows capital punishment. Ronald Ryan who was executed on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bruary 1967 was the last person to receive capital punishment in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untries still allow capital punishment and debate continues in Australia on whether it should be reintroduc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the points for and against capital punish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1905120" cy="261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2808360" cy="239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227640" y="1844640"/>
            <a:ext cx="1944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oral Pun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l punishment is the infliction of physical injury. For example caning, strapping. It is generally outlawed in Austra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8098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alties that Infringe Human Rights L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lties that infringe human rights are punishments that are cruel and unusual. For example torture, unlawful detention, death penalties and mandatory sente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le 7 of International Covenant of Civil and Political Rights bans such penalties. Australia is a sign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84720" y="5229360"/>
            <a:ext cx="158292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0:45:24Z</dcterms:created>
  <dc:creator>tfrostd</dc:creator>
  <dc:description/>
  <dc:language>en-US</dc:language>
  <cp:lastModifiedBy>mbee</cp:lastModifiedBy>
  <dcterms:modified xsi:type="dcterms:W3CDTF">2005-03-11T02:26:58Z</dcterms:modified>
  <cp:revision>4</cp:revision>
  <dc:subject/>
  <dc:title>Penalties No Longer Available</dc:title>
</cp:coreProperties>
</file>