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2397-4539-4F11-878B-CCFD1731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CC9-839A-4E61-873D-93634460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F1B-370A-40FA-A148-093635DE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676C-22F4-4659-891A-4849724FD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6BB-8B3E-4E8F-A151-38F2E4D9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17D4-E575-4BE9-8423-9B10B8B66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8FFB-EF18-4967-A4C7-FFDDA632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7BB-07D2-4843-8070-E93CC224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CAC-064A-4CA6-A1A1-78F18317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C971-EFFE-4414-A205-BE45C548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0F5D-FBF0-4B21-896F-4A977220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0BF0-F8F3-4116-BC5E-EFC84C1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A59-08B3-496D-A97D-96B8B093C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nalties No Longer Avail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724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pit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ital punishment is when a guilty person is put to death. The main forms of execution are the electric chair, gas chamber, lethal injection, firing squad and 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stralia no longer allows capital punishment. Ronald Ryan who was executed on 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ebruary 1967 was the last person to receive capital punishment in Austral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untries still allow capital punishment and debate continues in Australia on whether it should be reintroduc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ctivit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st the points for and against capital punishmen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1905120" cy="2619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987640" y="1773360"/>
            <a:ext cx="2808360" cy="23968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227640" y="1844640"/>
            <a:ext cx="194472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rporal Punis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oral punishment is the infliction of physical injury. For example caning, strapping. It is generally outlawed in Austral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357336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8098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nalties that Infringe Human Rights Law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lties that infringe human rights are punishments that are cruel and unusual. For example torture, unlawful detention, death penalties and mandatory sente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le 7 of International Covenant of Civil and Political Rights bans such penalties. Australia is a sign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084720" y="5229360"/>
            <a:ext cx="15829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00:45:24Z</dcterms:created>
  <dc:creator>tfrostd</dc:creator>
  <dc:description/>
  <dc:language>en-US</dc:language>
  <cp:lastModifiedBy>mbee</cp:lastModifiedBy>
  <dcterms:modified xsi:type="dcterms:W3CDTF">2005-03-11T02:26:58Z</dcterms:modified>
  <cp:revision>4</cp:revision>
  <dc:subject/>
  <dc:title>Penalties No Longer Available</dc:title>
</cp:coreProperties>
</file>