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0E0-C71A-4B47-9736-BED4799F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A62-AFFA-4051-9AEE-D1140678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A11-9280-48EB-85A1-10BBF7EF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695-DEC6-4D97-A225-9887DF88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9AE9-238F-4B3A-8A51-F9153BCE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0E4B-37C5-4645-BDB4-C18A6CB4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D9BB-2B37-4E62-BCE5-537570CD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50E8-E2EF-441C-BD6F-E14A4C11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DA4-BBE6-4DF7-B774-09B0D0EF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D46-95A1-4961-8891-F78B17BB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038-33CC-48BB-B736-64F9892A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0C2-7910-4E8E-8A4E-6736CFAE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5656-AD2C-40E1-A8BA-9BFCA126C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alties No Longer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2724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 Punis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punishment is when a guilty person is put to death. The main forms of execution are the electric chair, gas chamber, lethal injection, firing squad and 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no longer allows capital punishment. Ronald Ryan who was executed on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bruary 1967 was the last person to receive capital punishment in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ountries still allow capital punishment and debate continues in Australia on whether it should be reintroduc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 the points for and against capital punish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1905120" cy="261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987640" y="1773360"/>
            <a:ext cx="2808360" cy="239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227640" y="1844640"/>
            <a:ext cx="1944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oral Punis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l punishment is the infliction of physical injury. For example caning, strapping. It is generally outlawed in Austra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38098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alties that Infringe Human Rights La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lties that infringe human rights are punishments that are cruel and unusual. For example torture, unlawful detention, death penalties and mandatory sente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le 7 of International Covenant of Civil and Political Rights bans such penalties. Australia is a sign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84720" y="5229360"/>
            <a:ext cx="158292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0:45:24Z</dcterms:created>
  <dc:creator>tfrostd</dc:creator>
  <dc:description/>
  <dc:language>en-US</dc:language>
  <cp:lastModifiedBy>mbee</cp:lastModifiedBy>
  <dcterms:modified xsi:type="dcterms:W3CDTF">2005-03-11T02:26:58Z</dcterms:modified>
  <cp:revision>4</cp:revision>
  <dc:subject/>
  <dc:title>Penalties No Longer Available</dc:title>
</cp:coreProperties>
</file>