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DD3-CA02-42E8-B87C-02B4FAE3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EA91-7E6E-4F8D-A823-3B2AADC7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A031-79EC-405C-9B7C-52F435E06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D3F4-9F93-4894-8750-F08CC43CE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0B9E-4570-4207-B7E8-A874D3D0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7CB-9A4F-41F1-8B92-4BC6D82D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36A-4080-46E5-8979-5254BC246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9920-2051-4F3E-9C46-4C38432B9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8322-9152-472C-9207-10E41F461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0D58-6D7B-46B2-85F9-EB96318E8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A845-A3C4-46AA-9932-5A4A469E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E80B-04C3-4EF5-A461-89857C180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54E37-884F-4F91-9261-D640D3612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hiller"/>
              </a:rPr>
              <a:t>Terroris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215563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hiller"/>
              </a:rPr>
              <a:t>Mr Be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971800" cy="208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172200" y="41148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3124080"/>
            <a:ext cx="2641320" cy="3229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95880" y="152280"/>
            <a:ext cx="274320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History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Derived from the Latin word “Terrere” – to frigh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Polit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Viol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Underlying psychological repercussions on victi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1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752480"/>
            <a:ext cx="2028960" cy="15224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2057400" cy="133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715000" y="4724280"/>
            <a:ext cx="205740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legisl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ustralian anti-terrorism bill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2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nti-terrorism bill (no#3), 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hiller"/>
              </a:rPr>
              <a:t>Attorney General, Phillip Rudd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48320" y="1697040"/>
            <a:ext cx="4038480" cy="43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Provis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Wellbeing of society as a whole overruled individual righ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48320" y="1730520"/>
            <a:ext cx="4038480" cy="19238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943600" y="3886200"/>
            <a:ext cx="148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hiller"/>
              </a:rPr>
              <a:t>Safeguar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s right to communicate with a legal practitioner, friend or relative, an interpreter or consular officia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remain silen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Requiring the tape recording of any admissions or confessions of a suspect as a pre-condition of admissible evid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hill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hiller"/>
              </a:rPr>
              <a:t>A suspect’s right to a copy of recorded interview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610000" y="1719360"/>
            <a:ext cx="3924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7:35:23Z</dcterms:created>
  <dc:creator>TRINA</dc:creator>
  <dc:description/>
  <dc:language>en-US</dc:language>
  <cp:lastModifiedBy>TRINA</cp:lastModifiedBy>
  <dcterms:modified xsi:type="dcterms:W3CDTF">2010-03-15T06:08:08Z</dcterms:modified>
  <cp:revision>14</cp:revision>
  <dc:subject/>
  <dc:title>Terrorism</dc:title>
</cp:coreProperties>
</file>