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F9F-6D5C-42E6-BA41-89D9E62A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20D-D6C9-40A7-A82B-E61C450C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2D0-8699-4F4F-86B8-C666524D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045-8BC3-4E5E-966B-69D08DBD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CCE-8F19-4990-A162-E4D2BD8A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B11-0521-4B2D-BA46-1CDF96EE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2BD-F066-44A5-BF59-C4EEA42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C10-C0BD-462A-9416-2D15F90D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BB0-9790-4E42-8D6C-AB47A8B8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5FC-6DD1-4F03-B356-2692F706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50F-0872-461B-B05B-E10C8F7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B5B-90F1-42B5-95FB-19A72AA9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6AF1-2B48-47E8-B65B-1FA53178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Terroris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215563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Mr 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971800" cy="20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641320" cy="32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743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Hi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Derived from the Latin word “Terrere” – to frig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Polit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Vio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Underlying psychological repercussions on vict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028960" cy="15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legis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ustralian anti-terrorism bill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2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3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ttorney General, Phillip Ru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97040"/>
            <a:ext cx="4038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Prov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Wellbeing of society as a whole overruled individual righ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730520"/>
            <a:ext cx="4038480" cy="19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48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Safegu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s right to communicate with a legal practitioner, friend or relative, an interpreter or consular offic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remain sil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Requiring the tape recording of any admissions or confessions of a suspect as a pre-condition of admissible evid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a copy of recorded intervie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1719360"/>
            <a:ext cx="392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35:23Z</dcterms:created>
  <dc:creator>TRINA</dc:creator>
  <dc:description/>
  <dc:language>en-US</dc:language>
  <cp:lastModifiedBy>TRINA</cp:lastModifiedBy>
  <dcterms:modified xsi:type="dcterms:W3CDTF">2010-03-15T06:08:08Z</dcterms:modified>
  <cp:revision>14</cp:revision>
  <dc:subject/>
  <dc:title>Terrorism</dc:title>
</cp:coreProperties>
</file>