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335E-435A-4AE7-99B4-4A0EDEBB1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2394-1CA1-4A32-ADED-013E05EE3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27C5-930C-48AE-A86E-8D06129AC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CBB2-6BE4-46D8-BFFD-3CB50B5B2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D745-04AC-4ED9-9FE5-573A95A39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90E2-1FC7-4C68-AD0B-9C1E5E972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3178-58A1-43CA-B9E1-DB32B8E4A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EE84-B8E1-4E0B-996A-7FFFB94A2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73E5-33C9-4034-9A37-BF9FEDA14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6373-A2B1-400E-9DE4-676440F6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C021-B97E-4A26-BA38-AA4288C87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21E7-D213-40C3-9DED-94F24139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1D0EF-F11C-41DF-8831-29E2D9FF18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hiller"/>
              </a:rPr>
              <a:t>Terrorism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Chiller"/>
              </a:rPr>
              <a:t>2155633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Chiller"/>
              </a:rPr>
              <a:t>Mr Be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971800" cy="2084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172200" y="411480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04920" y="3124080"/>
            <a:ext cx="2641320" cy="3229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095880" y="152280"/>
            <a:ext cx="274320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hiller"/>
              </a:rPr>
              <a:t>Histor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iller"/>
              </a:rPr>
              <a:t>Derived from the Latin word “Terrere” – to frigh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iller"/>
              </a:rPr>
              <a:t>Politc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iller"/>
              </a:rPr>
              <a:t>Viol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iller"/>
              </a:rPr>
              <a:t>Underlying psychological repercussions on victi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715000" y="1752480"/>
            <a:ext cx="2028960" cy="1522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715000" y="3352680"/>
            <a:ext cx="2057400" cy="1336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715000" y="4724280"/>
            <a:ext cx="205740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hiller"/>
              </a:rPr>
              <a:t>legislati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hiller"/>
              </a:rPr>
              <a:t>Australian anti-terrorism bill, 20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hiller"/>
              </a:rPr>
              <a:t>Anti-terrorism bill (no#2), 20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hiller"/>
              </a:rPr>
              <a:t>Anti-terrorism bill (no#3), 20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hiller"/>
              </a:rPr>
              <a:t>Attorney General, Phillip Rudd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48320" y="1697040"/>
            <a:ext cx="403848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hiller"/>
              </a:rPr>
              <a:t>Provision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iller"/>
              </a:rPr>
              <a:t>Wellbeing of society as a whole overruled individual righ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48320" y="1730520"/>
            <a:ext cx="4038480" cy="1923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943600" y="3886200"/>
            <a:ext cx="14842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hiller"/>
              </a:rPr>
              <a:t>Safeguard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iller"/>
              </a:rPr>
              <a:t>A suspects right to communicate with a legal practitioner, friend or relative, an interpreter or consular officia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iller"/>
              </a:rPr>
              <a:t>A suspect’s right to remain sil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iller"/>
              </a:rPr>
              <a:t>Requiring the tape recording of any admissions or confessions of a suspect as a pre-condition of admissible eviden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iller"/>
              </a:rPr>
              <a:t>A suspect’s right to a copy of recorded interview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Y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610000" y="1719360"/>
            <a:ext cx="3924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3T07:35:23Z</dcterms:created>
  <dc:creator>TRINA</dc:creator>
  <dc:description/>
  <dc:language>en-US</dc:language>
  <cp:lastModifiedBy>TRINA</cp:lastModifiedBy>
  <dcterms:modified xsi:type="dcterms:W3CDTF">2010-03-15T06:08:08Z</dcterms:modified>
  <cp:revision>14</cp:revision>
  <dc:subject/>
  <dc:title>Terrorism</dc:title>
</cp:coreProperties>
</file>