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5E8-9CF3-418C-9F2D-51DC9CE3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FFF-066C-4E2C-8381-70F6F31C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BA8-FC61-49F8-A415-23880273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264-8F29-4B6B-8E98-80E36B4F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11D-A693-4973-96BA-E3CC161D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340-80C2-4E02-8363-D1EFC462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39C-66D7-4839-B131-340A6023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864-F577-4C00-B9F4-6B1C5449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E37-7F11-40FF-9133-2D5CE035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840-1F9E-4CF0-9165-1A8DFCE4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2CC-DAEA-4BCB-A2D6-7B73D388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4A8-38EA-4D8D-BBFC-14591EB5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37A8-1F1E-4B41-AAD1-A22D3C6FC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iller"/>
              </a:rPr>
              <a:t>Terroris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hiller"/>
              </a:rPr>
              <a:t>215563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hiller"/>
              </a:rPr>
              <a:t>Mr B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971800" cy="208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41148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2641320" cy="322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95880" y="152280"/>
            <a:ext cx="27432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Histo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Derived from the Latin word “Terrere” – to frigh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Polit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Vio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Underlying psychological repercussions on victi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028960" cy="152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2057400" cy="133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0574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legisl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ustralian anti-terrorism bill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nti-terrorism bill (no#2)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nti-terrorism bill (no#3)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ttorney General, Phillip Rudd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97040"/>
            <a:ext cx="4038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Provis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Wellbeing of society as a whole overruled individual righ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730520"/>
            <a:ext cx="4038480" cy="192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148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Safegu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s right to communicate with a legal practitioner, friend or relative, an interpreter or consular offic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’s right to remain sil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Requiring the tape recording of any admissions or confessions of a suspect as a pre-condition of admissible evid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’s right to a copy of recorded intervie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10000" y="1719360"/>
            <a:ext cx="392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7:35:23Z</dcterms:created>
  <dc:creator>TRINA</dc:creator>
  <dc:description/>
  <dc:language>en-US</dc:language>
  <cp:lastModifiedBy>TRINA</cp:lastModifiedBy>
  <dcterms:modified xsi:type="dcterms:W3CDTF">2010-03-15T06:08:08Z</dcterms:modified>
  <cp:revision>14</cp:revision>
  <dc:subject/>
  <dc:title>Terrorism</dc:title>
</cp:coreProperties>
</file>