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1362-32DB-49AD-91F3-518FB194B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6D0C-B5A9-4094-B033-9745B1A7D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4C2B-CBA2-4A3F-BB95-CD92CE970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F1A0-CC1D-4954-A5AB-6C579B30A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9E03-4052-43E1-B7D9-19CB086CD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B2B7-E993-46EE-A1C9-E3184414F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BEC4-DA4A-48C6-889D-D2C913C6A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F4EE-6236-4F19-BD8D-BD9759082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582E-6A35-4376-BF70-F000C509A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7869-5CA7-4DF2-A339-EB46C5712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6B0C-53EA-432E-AB51-4D3262F21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24AE-2771-4A90-8DCD-6EF2F0FB1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1F3E0-D217-4A02-92F8-8FCFAD72DC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hiller"/>
              </a:rPr>
              <a:t>Terrorism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0000"/>
                </a:solidFill>
                <a:uFillTx/>
                <a:latin typeface="Chiller"/>
              </a:rPr>
              <a:t>2155633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0000"/>
                </a:solidFill>
                <a:uFillTx/>
                <a:latin typeface="Chiller"/>
              </a:rPr>
              <a:t>Mr Be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2971800" cy="20844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172200" y="4114800"/>
            <a:ext cx="2362320" cy="2362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304920" y="3124080"/>
            <a:ext cx="2641320" cy="32292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6095880" y="152280"/>
            <a:ext cx="2743200" cy="24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hiller"/>
              </a:rPr>
              <a:t>History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hiller"/>
              </a:rPr>
              <a:t>Derived from the Latin word “Terrere” – to fright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hiller"/>
              </a:rPr>
              <a:t>Politc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hiller"/>
              </a:rPr>
              <a:t>Viol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hiller"/>
              </a:rPr>
              <a:t>Underlying psychological repercussions on victi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715000" y="1752480"/>
            <a:ext cx="2028960" cy="15224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715000" y="3352680"/>
            <a:ext cx="2057400" cy="13366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5715000" y="4724280"/>
            <a:ext cx="2057400" cy="17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hiller"/>
              </a:rPr>
              <a:t>legislatio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hiller"/>
              </a:rPr>
              <a:t>Australian anti-terrorism bill, 200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hiller"/>
              </a:rPr>
              <a:t>Anti-terrorism bill (no#2), 200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hiller"/>
              </a:rPr>
              <a:t>Anti-terrorism bill (no#3), 200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hiller"/>
              </a:rPr>
              <a:t>Attorney General, Phillip Ruddo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648320" y="1697040"/>
            <a:ext cx="4038480" cy="43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hiller"/>
              </a:rPr>
              <a:t>Provision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hiller"/>
              </a:rPr>
              <a:t>Wellbeing of society as a whole overruled individual right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648320" y="1730520"/>
            <a:ext cx="4038480" cy="19238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943600" y="3886200"/>
            <a:ext cx="148428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hiller"/>
              </a:rPr>
              <a:t>Safeguard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hiller"/>
              </a:rPr>
              <a:t>A suspects right to communicate with a legal practitioner, friend or relative, an interpreter or consular officia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hiller"/>
              </a:rPr>
              <a:t>A suspect’s right to remain sile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hiller"/>
              </a:rPr>
              <a:t>Requiring the tape recording of any admissions or confessions of a suspect as a pre-condition of admissible evidenc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hiller"/>
              </a:rPr>
              <a:t>A suspect’s right to a copy of recorded interview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Y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610000" y="1719360"/>
            <a:ext cx="3924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3T07:35:23Z</dcterms:created>
  <dc:creator>TRINA</dc:creator>
  <dc:description/>
  <dc:language>en-US</dc:language>
  <cp:lastModifiedBy>TRINA</cp:lastModifiedBy>
  <dcterms:modified xsi:type="dcterms:W3CDTF">2010-03-15T06:08:08Z</dcterms:modified>
  <cp:revision>14</cp:revision>
  <dc:subject/>
  <dc:title>Terrorism</dc:title>
</cp:coreProperties>
</file>