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E016-D5B1-4B16-A71D-AE35C0D1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F265-3844-4D4E-B315-77F163B83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3C2-4198-4CE7-89F1-AB60E0ACC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B806-8104-439C-A3AF-ACAB7AC17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88E5-06D3-4D16-91B9-E484E8826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EC0B-A612-4FE3-80FE-69E3E535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723-B3E6-4137-A64D-4508C09F6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52B3-CEAE-4087-BD57-94A5E4B9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78B4-0178-4916-A697-00BBCD83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1E82-9C4F-46E6-BDA7-784A4A1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8970-0DDA-4EB5-BF2A-76FD8F47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1A78-5AB3-4F08-906C-F8824254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53ED-3C84-42BA-9BC2-87EA310E0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iller"/>
              </a:rPr>
              <a:t>Terroris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215563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Mr B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971800" cy="208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641320" cy="32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95880" y="152280"/>
            <a:ext cx="2743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Hi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Derived from the Latin word “Terrere” – to frig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Polit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Vio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Underlying psychological repercussions on vict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028960" cy="152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057400" cy="133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legis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ustralian anti-terrorism bill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2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3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ttorney General, Phillip Ru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97040"/>
            <a:ext cx="4038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Provi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Wellbeing of society as a whole overruled individual righ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730520"/>
            <a:ext cx="4038480" cy="19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148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Safegu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s right to communicate with a legal practitioner, friend or relative, an interpreter or consular offic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remain sil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Requiring the tape recording of any admissions or confessions of a suspect as a pre-condition of admissible evid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a copy of recorded intervie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10000" y="1719360"/>
            <a:ext cx="392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7:35:23Z</dcterms:created>
  <dc:creator>TRINA</dc:creator>
  <dc:description/>
  <dc:language>en-US</dc:language>
  <cp:lastModifiedBy>TRINA</cp:lastModifiedBy>
  <dcterms:modified xsi:type="dcterms:W3CDTF">2010-03-15T06:08:08Z</dcterms:modified>
  <cp:revision>14</cp:revision>
  <dc:subject/>
  <dc:title>Terrorism</dc:title>
</cp:coreProperties>
</file>