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62E-FEDE-48D9-B789-2AD4D0B2B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2F82-CE9A-48CC-AC8B-19802F15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D67C-BDCF-4CFC-B073-D09584E35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0CD-7173-47A0-82FF-EA8AC0B1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A00A-457B-43A0-B954-FF48B2E9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37A3-9870-4E5A-813F-4BB04896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53FC-0915-4D90-B589-792EC6479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C525-2DBF-44BE-B4ED-EBF0E83A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143F-B6E6-4C03-B881-4A93667B1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CCC-DD31-4452-939C-534F9CBA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9779-2051-43E2-B648-FD31E2FE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8DC7-FA65-487C-B54F-311BD430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3042b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1CF1-5A8A-475E-8A4A-AE598DDC7505}" type="slidenum">
              <a:rPr b="0" lang="en-US" sz="1400" spc="-1" strike="noStrike">
                <a:solidFill>
                  <a:srgbClr val="03042b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3042b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3042b"/>
                </a:solidFill>
                <a:latin typeface="Trebuchet MS"/>
              </a:rPr>
              <a:t>World Orde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ypes of conflict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ventional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Characterised by opposing professional armie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WI, WW2, Falkland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uerilla Warfare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No defined front lin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Often a civilian army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Hit and run tactics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ing the local geography to hide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Vietnam, Afghanista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Nuclear Wa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The use of weapons that cause indiscriminate, large scale d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Panicked the world at height of the Cold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Trebuchet MS"/>
              </a:rPr>
              <a:t>M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tually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A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sured </a:t>
            </a:r>
            <a:r>
              <a:rPr b="0" lang="en-US" sz="3200" spc="-1" strike="noStrike">
                <a:solidFill>
                  <a:srgbClr val="0070c0"/>
                </a:solidFill>
                <a:latin typeface="Trebuchet MS"/>
              </a:rPr>
              <a:t>D</a:t>
            </a: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estructi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agasaki, Hiroshima, WW2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Biological/Chemical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 of chemical warfare commenced in WW1 with use of mustard gas. Israel fired phosphorous bombs against Lebanon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Biological war is the use of deadly germs. Not widespread due to difficulty to control. Example is anthrax. Often linked to possible terrorist act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erroris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ed to promote fear amongst a population concerning the possibility of an attack. Not always associated with a state of war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carried out by small extremist groups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Sept 11, Bali, London, Madrid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25800" indent="-32580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IRA, Al Qaeda, Jemah Islameeh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ivil War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When the domestic population of a country is divided and fighting each other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Usually fought for control of the country.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042b"/>
                </a:solidFill>
                <a:latin typeface="Trebuchet MS"/>
              </a:rPr>
              <a:t>American, Vietnam</a:t>
            </a: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3042b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3042b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07:43:48Z</dcterms:created>
  <dc:creator>Template Ready</dc:creator>
  <dc:description/>
  <cp:keywords>Education</cp:keywords>
  <dc:language>en-US</dc:language>
  <cp:lastModifiedBy>michael.bee</cp:lastModifiedBy>
  <dcterms:modified xsi:type="dcterms:W3CDTF">2010-06-19T10:00:22Z</dcterms:modified>
  <cp:revision>14</cp:revision>
  <dc:subject>Template Ready</dc:subject>
  <dc:title>TR_0703</dc:title>
</cp:coreProperties>
</file>