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CDB9-F991-4EC2-A360-B2E7ACCC8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6F9E-4B40-435E-A1E5-FB9D9C27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841F-A0A6-400D-BF78-44F389F7E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6DE7-EA6B-442E-8A62-8C0EB2C95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85F5-0D5D-499D-9519-777C6E17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715F-8BD3-430F-83C2-6C40EA9D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3CFB-F142-47B3-B90D-F83ACAC0F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64BF-087E-467D-BAB2-F729AA0A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A61F-2A11-4E07-B436-13287E33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A8CB-32D9-419F-AF54-55CDDB39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43F4-1212-4E63-8148-49B8F465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316A-060D-4B74-8E59-04148EA3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3042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05661-CE26-4E5B-9500-8E21053CEA45}" type="slidenum">
              <a:rPr b="0" lang="en-US" sz="1400" spc="-1" strike="noStrike">
                <a:solidFill>
                  <a:srgbClr val="03042b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World Order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Types of conflict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onventional Warfare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Characterised by opposing professional armies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WWI, WW2, Falklands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Guerilla Warfare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No defined front line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Often a civilian army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Hit and run tactics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Using the local geography to hide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Vietnam, Afghanistan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Nuclear War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The use of weapons that cause indiscriminate, large scale destruction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Panicked the world at height of the Cold War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rebuchet MS"/>
              </a:rPr>
              <a:t>M</a:t>
            </a: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utually </a:t>
            </a:r>
            <a:r>
              <a:rPr b="0" lang="en-US" sz="3200" spc="-1" strike="noStrike">
                <a:solidFill>
                  <a:srgbClr val="0070c0"/>
                </a:solidFill>
                <a:latin typeface="Trebuchet MS"/>
              </a:rPr>
              <a:t>A</a:t>
            </a: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sured </a:t>
            </a:r>
            <a:r>
              <a:rPr b="0" lang="en-US" sz="3200" spc="-1" strike="noStrike">
                <a:solidFill>
                  <a:srgbClr val="0070c0"/>
                </a:solidFill>
                <a:latin typeface="Trebuchet MS"/>
              </a:rPr>
              <a:t>D</a:t>
            </a: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estruction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agasaki, Hiroshima, WW2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Biological/Chemical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Use of chemical warfare commenced in WW1 with use of mustard gas. Israel fired phosphorous bombs against Lebanon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29040" indent="-32904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Biological war is the use of deadly germs. Not widespread due to difficulty to control. Example is anthrax. Often linked to possible terrorist acts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errorism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Used to promote fear amongst a population concerning the possibility of an attack. Not always associated with a state of war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25800" indent="-32580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Usually carried out by small extremist groups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25800" indent="-32580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pt 11, Bali, London, Madrid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25800" indent="-32580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IRA, Al Qaeda, Jemah Islameeh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ivil War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When the domestic population of a country is divided and fighting each other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Usually fought for control of the country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American, Vietnam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07:43:48Z</dcterms:created>
  <dc:creator>Template Ready</dc:creator>
  <dc:description/>
  <cp:keywords>Education</cp:keywords>
  <dc:language>en-US</dc:language>
  <cp:lastModifiedBy>michael.bee</cp:lastModifiedBy>
  <dcterms:modified xsi:type="dcterms:W3CDTF">2010-06-19T10:00:22Z</dcterms:modified>
  <cp:revision>14</cp:revision>
  <dc:subject>Template Ready</dc:subject>
  <dc:title>TR_0703</dc:title>
</cp:coreProperties>
</file>