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C19-E123-4E5C-9B79-7ECA0CE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703-6681-4FE2-ABDF-7BE619F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ADF-61BF-4200-A628-41DC0B78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5E2-79C6-4B7D-B1BF-B0121FDD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483-1FC1-4A88-9A97-2CDBBECA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A42-5754-494C-AD7C-B0498A9E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C09-3752-4B0A-9747-88CAC70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63C-1283-4D30-B9E5-8E614EF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B13-F87A-43E8-9C28-5643A962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9A5-0AEB-4BEF-9B97-063266D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66F-311B-4C48-9900-5779858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E9D-59B1-48BA-96AC-6EE5D89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CC7-2DB3-4392-8E0B-290866BBA7CF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orld Orde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ypes of conflic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ventional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haracterised by opposing professional armi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WI, WW2, Falkland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uerilla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No defined front lin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ften a civilian arm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it and run tactic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ing the local geography to hid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Vietnam, Afghanista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use of weapons that cause indiscriminate, large scale d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Panicked the world at height of the Cold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rebuchet MS"/>
              </a:rPr>
              <a:t>M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tually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A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sured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gasaki, Hiroshima, WW2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logical/Chemical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 of chemical warfare commenced in WW1 with use of mustard gas. Israel fired phosphorous bombs against Leban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iological war is the use of deadly germs. Not widespread due to difficulty to control. Example is anthrax. Often linked to possible terrorist act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rror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d to promote fear amongst a population concerning the possibility of an attack. Not always associated with a state of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carried out by small extremist group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pt 11, Bali, London, Madrid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RA, Al Qaeda, Jemah Islameeh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ivil War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en the domestic population of a country is divided and fighting each other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fought for control of the country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merican, Vietnam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7:43:48Z</dcterms:created>
  <dc:creator>Template Ready</dc:creator>
  <dc:description/>
  <cp:keywords>Education</cp:keywords>
  <dc:language>en-US</dc:language>
  <cp:lastModifiedBy>michael.bee</cp:lastModifiedBy>
  <dcterms:modified xsi:type="dcterms:W3CDTF">2010-06-19T10:00:22Z</dcterms:modified>
  <cp:revision>14</cp:revision>
  <dc:subject>Template Ready</dc:subject>
  <dc:title>TR_0703</dc:title>
</cp:coreProperties>
</file>