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7ED9-A470-42A0-9459-830F480AD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F29E-DA9A-4E01-9702-FC3A01E2E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09-0F00-4309-97FC-25D5FBD2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2CB-263B-4E84-A950-F6E7533F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38EC-A32C-4A14-9A41-746EC3535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B3CD-6282-44DE-9ADE-645EE456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3342-B277-42A1-81DC-696E2227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497-1D5D-498F-BE21-E0F2BFD8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FDB5-0859-42DC-8169-EE9D9AFE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5C11-161B-4EC0-BE36-72D7BDD39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16B7-C8F0-42FA-ADBA-91CE288F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2FE5-2A5E-43D0-8F2E-82FB374E9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EA5C-B61A-4775-A33A-FA55E003168C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orld Orde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ypes of conflic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ventional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haracterised by opposing professional armi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WI, WW2, Falkland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uerilla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No defined front lin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ften a civilian arm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it and run tactic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ing the local geography to hid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Vietnam, Afghanista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use of weapons that cause indiscriminate, large scale d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Panicked the world at height of the Cold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rebuchet MS"/>
              </a:rPr>
              <a:t>M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tually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A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sured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gasaki, Hiroshima, WW2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logical/Chemical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 of chemical warfare commenced in WW1 with use of mustard gas. Israel fired phosphorous bombs against Leban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iological war is the use of deadly germs. Not widespread due to difficulty to control. Example is anthrax. Often linked to possible terrorist act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rroris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d to promote fear amongst a population concerning the possibility of an attack. Not always associated with a state of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carried out by small extremist group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pt 11, Bali, London, Madrid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RA, Al Qaeda, Jemah Islameeh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ivil War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en the domestic population of a country is divided and fighting each other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fought for control of the country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merican, Vietnam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7:43:48Z</dcterms:created>
  <dc:creator>Template Ready</dc:creator>
  <dc:description/>
  <cp:keywords>Education</cp:keywords>
  <dc:language>en-US</dc:language>
  <cp:lastModifiedBy>michael.bee</cp:lastModifiedBy>
  <dcterms:modified xsi:type="dcterms:W3CDTF">2010-06-19T10:00:22Z</dcterms:modified>
  <cp:revision>14</cp:revision>
  <dc:subject>Template Ready</dc:subject>
  <dc:title>TR_0703</dc:title>
</cp:coreProperties>
</file>