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27BA2-8C43-4660-9F17-ACED00CA2F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3BB422-0AAC-4D4C-8FDA-3E920B6B3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F01D8D-338D-4B1B-8E5B-615CDF42F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477FB1-D315-4429-A1C5-9CCFC8C20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43D60F-C546-4758-88F0-FF76C470E1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14105F-C378-43C0-8AF4-D318ED51DF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2562E-5D11-4AC6-B5F4-18EF558AE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8CF17-19B0-4B28-94B1-6CA7235E0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C49B2-FF22-4367-A680-E8D0188C3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1BD2E-4103-413B-9921-E82B9265FD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9201A-8752-4FA1-94B8-2BFF46F05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4C1ED-5C9A-4C29-AED0-F32BEBA5B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BE0078-A289-42FD-B7F9-B49B2626B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50BBD-0E2B-4045-9714-39FCD68AC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DCA283-FF38-480B-8C01-CC232F06B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E10052-0430-44B8-8E53-5C009D6632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D8715A-D64C-4782-9274-F1D78B28F5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A6E8FD-5B71-47C5-8D38-A207DDC8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37E87D-35AC-4CC8-8AD3-FF97F25BF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6900D-A1AB-439A-AD03-2BE5F148D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6AB41-C279-4A88-8E1A-DDEB16BE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0E21F-4055-4347-BAFD-AE6139657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2D922A-8354-47EF-9300-132C91486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FD2EA-0E16-412A-887D-DB55A2980C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E4366-692F-41D3-86CE-B90DFA92F16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27440-C382-4A79-A0E5-D16D18E394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acextra.legalaid.nsw.gov.au/Publications/FileUpload/Doc/ImprintFile463.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rcatornet.com/articles/view/legalising_polygamy_for_muslim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lternative family arrangement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nuclear families)</a:t>
            </a: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rimination – Not widely accepted in soci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ion – Still not permitted for gay couples to adopt. Gay people can adopt as a single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 did not have access to Family Law Act (1975) to resolve disputes</a:t>
            </a: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 to you</a:t>
            </a:r>
            <a:endParaRPr b="0" lang="en-US" sz="4400" spc="-1" strike="noStrike">
              <a:solidFill>
                <a:srgbClr val="ffffcc"/>
              </a:solidFill>
              <a:latin typeface="Tahoma"/>
            </a:endParaRPr>
          </a:p>
        </p:txBody>
      </p:sp>
      <p:sp>
        <p:nvSpPr>
          <p:cNvPr id="1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ages 254-55 to map chart changes in law responding to questions of rights of same-sex couples</a:t>
            </a:r>
            <a:endParaRPr b="0" lang="en-US" sz="32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st recent change</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Family Law Amendment (De Facto Financial Matters and Other Measures) Act</a:t>
            </a:r>
            <a:r>
              <a:rPr b="0" lang="en-AU" sz="3200" spc="-1" strike="noStrike">
                <a:solidFill>
                  <a:srgbClr val="ffffff"/>
                </a:solidFill>
                <a:latin typeface="Tahoma"/>
              </a:rPr>
              <a:t> 2008  - recognised de facto, incl same-sex, as equal in rights as marri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tailed information at: </a:t>
            </a:r>
            <a:r>
              <a:rPr b="0" lang="en-AU" sz="3200" spc="-1" strike="noStrike" u="sng">
                <a:solidFill>
                  <a:srgbClr val="ffcc66"/>
                </a:solidFill>
                <a:uFillTx/>
                <a:latin typeface="Tahoma"/>
                <a:hlinkClick r:id="rId1"/>
              </a:rPr>
              <a:t>http://lacextra.legalaid.nsw.gov.au/Publications/FileUpload/Doc/ImprintFile463.pdf</a:t>
            </a:r>
            <a:endParaRPr b="0" lang="en-US" sz="32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gamous Marriag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riage Act 1961 (Cth) disallows this: </a:t>
            </a:r>
            <a:r>
              <a:rPr b="0" i="1" lang="en-US" sz="2400" spc="-1" strike="noStrike">
                <a:solidFill>
                  <a:srgbClr val="ffffff"/>
                </a:solidFill>
                <a:latin typeface="Tahoma"/>
              </a:rPr>
              <a:t>A  marriage is void if either of the parties was, at the time of the marriage lawfully married to some other perso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eople have legally married 2 spouses overseas, the Australian Legal system recognises the 1</a:t>
            </a:r>
            <a:r>
              <a:rPr b="0" lang="en-US" sz="3200" spc="-1" strike="noStrike" baseline="30000">
                <a:solidFill>
                  <a:srgbClr val="ffffff"/>
                </a:solidFill>
                <a:latin typeface="Tahoma"/>
              </a:rPr>
              <a:t>st</a:t>
            </a:r>
            <a:r>
              <a:rPr b="0" lang="en-US" sz="3200" spc="-1" strike="noStrike">
                <a:solidFill>
                  <a:srgbClr val="ffffff"/>
                </a:solidFill>
                <a:latin typeface="Tahoma"/>
              </a:rPr>
              <a:t> marriage and the subsequent as de facto relationships (Family Law Act 1975 (Cth.)).</a:t>
            </a: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ly unaccept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e immigration means that people entering Australia are sometimes in polygamous relationshi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discriminate against race/relig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linked article </a:t>
            </a:r>
            <a:r>
              <a:rPr b="0" lang="en-US" sz="3200" spc="-1" strike="noStrike" u="sng">
                <a:solidFill>
                  <a:srgbClr val="ffcc66"/>
                </a:solidFill>
                <a:uFillTx/>
                <a:latin typeface="Tahoma"/>
                <a:hlinkClick r:id="rId1"/>
              </a:rPr>
              <a:t>http://www.mercatornet.com/articles/view/legalising_polygamy_for_muslims/</a:t>
            </a:r>
            <a:endParaRPr b="0" lang="en-US" sz="32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 Facto </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 facto relationship is defined in Section 4AA of the </a:t>
            </a:r>
            <a:r>
              <a:rPr b="0" i="1" lang="en-US" sz="2800" spc="-1" strike="noStrike">
                <a:solidFill>
                  <a:srgbClr val="ffffff"/>
                </a:solidFill>
                <a:latin typeface="Tahoma"/>
              </a:rPr>
              <a:t>Family Law Act 1975</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w requires that you and your former partner, who may be of the same or opposite sex, had a relationship as a couple living together on a genuine domestic bas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lationship is not a de facto relationship if you were legally married to one another or if you are related by family.</a:t>
            </a: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amily becoming less comm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that law is relevant to changing families</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SI People’s customary marriages</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genous marriages are not recognised by Australian Law (refer to what constitutes a valid marriage)</a:t>
            </a: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genous marriages have the following characteristic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occur between close relative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include more that 2 people</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s younger than 18 may mar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be volunta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have a legally recognised celebrant</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tradition of recording details</a:t>
            </a:r>
            <a:endParaRPr b="0" lang="en-US" sz="28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RC released a report- Recognition of Aboriginal customary Laws 1986 (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Suggested these marriages be given de facto status.</a:t>
            </a:r>
            <a:endParaRPr b="0" lang="en-US" sz="32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ngle Parent Famili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from w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7% of single parent families are headed by the female. (200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issues include: discrimination, access to welfare, right to maintenance payments from non-residential parent, financial insecurity.</a:t>
            </a: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ended Famili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 live together (de facto or married) with children from a previous relationship</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ncrete legal definition of ‘blended’ and ‘step’ famili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ssues: responsibility for step-children? Maintenance? Adoption? Inheritanc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utline how each of these is resolved.</a:t>
            </a:r>
            <a:endParaRPr b="0" lang="en-US" sz="32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parents are not responsible for child support of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LC can order maintenance payments if the blended family spits if they are a legal guardi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adoption laws apply to adopt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laim on estate, unless dependent. </a:t>
            </a: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e Sex relations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eople from the same sex share a </a:t>
            </a:r>
            <a:r>
              <a:rPr b="0" i="1" lang="en-US" sz="2800" spc="-1" strike="noStrike">
                <a:solidFill>
                  <a:srgbClr val="ffffff"/>
                </a:solidFill>
                <a:latin typeface="Tahoma"/>
              </a:rPr>
              <a:t>bona fide</a:t>
            </a:r>
            <a:r>
              <a:rPr b="0" lang="en-US" sz="2800" spc="-1" strike="noStrike">
                <a:solidFill>
                  <a:srgbClr val="ffffff"/>
                </a:solidFill>
                <a:latin typeface="Tahoma"/>
              </a:rPr>
              <a:t> (genuine) relationship (domestic and sexual).</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legally married under Australian Law</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tled to De Facto statu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gay male couple took NIB health fund to Equal Opportunity Tribunal stating they had be discriminated against by not being able to take out the ‘family’ option of their health cover. Found to have been discriminated against (</a:t>
            </a:r>
            <a:r>
              <a:rPr b="0" i="1" lang="en-US" sz="2800" spc="-1" strike="noStrike">
                <a:solidFill>
                  <a:srgbClr val="ffffff"/>
                </a:solidFill>
                <a:latin typeface="Tahoma"/>
              </a:rPr>
              <a:t>Brown V. NIB Health Fund Ltd. 1995</a:t>
            </a:r>
            <a:r>
              <a:rPr b="0" lang="en-US" sz="2800" spc="-1" strike="noStrike">
                <a:solidFill>
                  <a:srgbClr val="ffffff"/>
                </a:solidFill>
                <a:latin typeface="Tahoma"/>
              </a:rPr>
              <a:t>) C</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1:45:11Z</dcterms:created>
  <dc:creator>julia.young</dc:creator>
  <dc:description/>
  <dc:language>en-US</dc:language>
  <cp:lastModifiedBy>michael.bee</cp:lastModifiedBy>
  <dcterms:modified xsi:type="dcterms:W3CDTF">2010-05-02T11:53:51Z</dcterms:modified>
  <cp:revision>16</cp:revision>
  <dc:subject/>
  <dc:title>Alternative family arrangements</dc:title>
</cp:coreProperties>
</file>