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7C37C3-AC3F-43F3-9D25-AF4F4CA52D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42715-FA63-4ADE-82E9-92D3C04C1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E1E4F0-0041-47AC-BF39-E487165C9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FBDF88-37B6-4779-8969-D58A803B7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917B0-DDFA-437B-921E-F1BAE30198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B943A-BA1E-4A5F-9484-7214B4D0E8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57B832-4699-4D81-AD91-CCCCDA50D2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7199DD-987B-4041-B9AB-22EBC7B19B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6072D-F5EF-4818-84EC-D453DD909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37B48D-F8FD-4678-B169-4A515A2D79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6AA1B-693A-4F5E-B25F-B80702771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F62B2-2628-4100-9225-FFFD70764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0AF5C-BFFE-4DE1-88F6-4C995887AD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8B8EEF-F336-421A-BCF6-B74F4E6334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5E618-0DED-4EC6-B133-769BC7BE84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2D41EB-1828-4AF8-A003-3912F99828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5FAED4-1072-499E-BEB6-D3D2B0FCDF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9CCB5-8F4B-4FED-A5EC-880AA6B2F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74B8A-DEFA-48F8-A6C9-ACF429A66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30400-955B-4D84-ACA8-AB5F65BB3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E309A-B863-4E79-A30D-581A7BFEE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78B33-A771-49BC-A455-2F1EF4D54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DBB54-4DC5-45BA-B79C-4A95B9723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A8F06-D400-4379-8AA5-322EDD243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46781-0F2D-4DE3-B758-C7A034C440F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78DDF-634F-4E55-885F-3FD8194BC05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lacextra.legalaid.nsw.gov.au/Publications/FileUpload/Doc/ImprintFile463.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ercatornet.com/articles/view/legalising_polygamy_for_muslims/"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lternative family arrangement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nuclear families)</a:t>
            </a:r>
            <a:endParaRPr b="0" lang="en-US" sz="3200" spc="-1" strike="noStrike">
              <a:solidFill>
                <a:srgbClr val="ffffff"/>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a:t>
            </a:r>
            <a:endParaRPr b="0" lang="en-US" sz="4400" spc="-1" strike="noStrike">
              <a:solidFill>
                <a:srgbClr val="ffffcc"/>
              </a:solidFill>
              <a:latin typeface="Tahoma"/>
            </a:endParaRPr>
          </a:p>
        </p:txBody>
      </p:sp>
      <p:sp>
        <p:nvSpPr>
          <p:cNvPr id="10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rimination – Not widely accepted in socie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ion – Still not permitted for gay couples to adopt. Gay people can adopt as a single per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 did not have access to Family Law Act (1975) to resolve disputes</a:t>
            </a:r>
            <a:endParaRPr b="0" lang="en-US" sz="3200" spc="-1" strike="noStrike">
              <a:solidFill>
                <a:srgbClr val="ffffff"/>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ver to you</a:t>
            </a:r>
            <a:endParaRPr b="0" lang="en-US" sz="4400" spc="-1" strike="noStrike">
              <a:solidFill>
                <a:srgbClr val="ffffcc"/>
              </a:solidFill>
              <a:latin typeface="Tahoma"/>
            </a:endParaRPr>
          </a:p>
        </p:txBody>
      </p:sp>
      <p:sp>
        <p:nvSpPr>
          <p:cNvPr id="10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pages 254-55 to map chart changes in law responding to questions of rights of same-sex couples</a:t>
            </a:r>
            <a:endParaRPr b="0" lang="en-US" sz="3200" spc="-1" strike="noStrike">
              <a:solidFill>
                <a:srgbClr val="ffffff"/>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st recent change</a:t>
            </a:r>
            <a:endParaRPr b="0" lang="en-US" sz="4400" spc="-1" strike="noStrike">
              <a:solidFill>
                <a:srgbClr val="ffffcc"/>
              </a:solidFill>
              <a:latin typeface="Tahoma"/>
            </a:endParaRPr>
          </a:p>
        </p:txBody>
      </p:sp>
      <p:sp>
        <p:nvSpPr>
          <p:cNvPr id="11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Family Law Amendment (De Facto Financial Matters and Other Measures) Act</a:t>
            </a:r>
            <a:r>
              <a:rPr b="0" lang="en-AU" sz="3200" spc="-1" strike="noStrike">
                <a:solidFill>
                  <a:srgbClr val="ffffff"/>
                </a:solidFill>
                <a:latin typeface="Tahoma"/>
              </a:rPr>
              <a:t> 2008  - recognised de facto, incl same-sex, as equal in rights as marriag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tailed information at: </a:t>
            </a:r>
            <a:r>
              <a:rPr b="0" lang="en-AU" sz="3200" spc="-1" strike="noStrike" u="sng">
                <a:solidFill>
                  <a:srgbClr val="ffcc66"/>
                </a:solidFill>
                <a:uFillTx/>
                <a:latin typeface="Tahoma"/>
                <a:hlinkClick r:id="rId1"/>
              </a:rPr>
              <a:t>http://lacextra.legalaid.nsw.gov.au/Publications/FileUpload/Doc/ImprintFile463.pdf</a:t>
            </a:r>
            <a:endParaRPr b="0" lang="en-US" sz="3200" spc="-1" strike="noStrike">
              <a:solidFill>
                <a:srgbClr val="ffffff"/>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ygamous Marriages</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riage Act 1961 (Cth) disallows this: </a:t>
            </a:r>
            <a:r>
              <a:rPr b="0" i="1" lang="en-US" sz="2400" spc="-1" strike="noStrike">
                <a:solidFill>
                  <a:srgbClr val="ffffff"/>
                </a:solidFill>
                <a:latin typeface="Tahoma"/>
              </a:rPr>
              <a:t>A  marriage is void if either of the parties was, at the time of the marriage lawfully married to some other person</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people have legally married 2 spouses overseas, the Australian Legal system recognises the 1</a:t>
            </a:r>
            <a:r>
              <a:rPr b="0" lang="en-US" sz="3200" spc="-1" strike="noStrike" baseline="30000">
                <a:solidFill>
                  <a:srgbClr val="ffffff"/>
                </a:solidFill>
                <a:latin typeface="Tahoma"/>
              </a:rPr>
              <a:t>st</a:t>
            </a:r>
            <a:r>
              <a:rPr b="0" lang="en-US" sz="3200" spc="-1" strike="noStrike">
                <a:solidFill>
                  <a:srgbClr val="ffffff"/>
                </a:solidFill>
                <a:latin typeface="Tahoma"/>
              </a:rPr>
              <a:t> marriage and the subsequent as de facto relationships (Family Law Act 1975 (Cth.)).</a:t>
            </a:r>
            <a:endParaRPr b="0" lang="en-US" sz="3200" spc="-1" strike="noStrike">
              <a:solidFill>
                <a:srgbClr val="ffffff"/>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a:t>
            </a:r>
            <a:endParaRPr b="0" lang="en-US" sz="4400" spc="-1" strike="noStrike">
              <a:solidFill>
                <a:srgbClr val="ffffcc"/>
              </a:solidFill>
              <a:latin typeface="Tahoma"/>
            </a:endParaRPr>
          </a:p>
        </p:txBody>
      </p:sp>
      <p:sp>
        <p:nvSpPr>
          <p:cNvPr id="11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ly unaccept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erse immigration means that people entering Australia are sometimes in polygamous relationshi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it discriminate against race/relig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the linked article </a:t>
            </a:r>
            <a:r>
              <a:rPr b="0" lang="en-US" sz="3200" spc="-1" strike="noStrike" u="sng">
                <a:solidFill>
                  <a:srgbClr val="ffcc66"/>
                </a:solidFill>
                <a:uFillTx/>
                <a:latin typeface="Tahoma"/>
                <a:hlinkClick r:id="rId1"/>
              </a:rPr>
              <a:t>http://www.mercatornet.com/articles/view/legalising_polygamy_for_muslims/</a:t>
            </a:r>
            <a:endParaRPr b="0" lang="en-US" sz="32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 Facto </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e facto relationship is defined in Section 4AA of the </a:t>
            </a:r>
            <a:r>
              <a:rPr b="0" i="1" lang="en-US" sz="2800" spc="-1" strike="noStrike">
                <a:solidFill>
                  <a:srgbClr val="ffffff"/>
                </a:solidFill>
                <a:latin typeface="Tahoma"/>
              </a:rPr>
              <a:t>Family Law Act 1975</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law requires that you and your former partner, who may be of the same or opposite sex, had a relationship as a couple living together on a genuine domestic basi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relationship is not a de facto relationship if you were legally married to one another or if you are related by family.</a:t>
            </a:r>
            <a:endParaRPr b="0" lang="en-US" sz="28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clear family becoming less comm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t that law is relevant to changing families</a:t>
            </a: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TSI People’s customary marriages</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ndigenous marriages are not recognised by Australian Law (refer to what constitutes a valid marriage)</a:t>
            </a:r>
            <a:endParaRPr b="0" lang="en-US" sz="32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genous marriages have the following characteristics:</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occur between close relatives</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include more that 2 people</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rls younger than 18 may marry</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not be voluntary</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not have a legally recognised celebrant</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al tradition of recording details</a:t>
            </a:r>
            <a:endParaRPr b="0" lang="en-US" sz="28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RC released a report- Recognition of Aboriginal customary Laws 1986 (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Suggested these marriages be given de facto status.</a:t>
            </a:r>
            <a:endParaRPr b="0" lang="en-US" sz="32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ngle Parent Familie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result from wh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7% of single parent families are headed by the female. (2006)</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al issues include: discrimination, access to welfare, right to maintenance payments from non-residential parent, financial insecurity.</a:t>
            </a:r>
            <a:endParaRPr b="0" lang="en-US" sz="3200" spc="-1" strike="noStrike">
              <a:solidFill>
                <a:srgbClr val="ffffff"/>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ended Famili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ple live together (de facto or married) with children from a previous relationship</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oncrete legal definition of ‘blended’ and ‘step’ familie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ssues: responsibility for step-children? Maintenance? Adoption? Inheritance?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Outline how each of these is resolved.</a:t>
            </a:r>
            <a:endParaRPr b="0" lang="en-US" sz="32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parents are not responsible for child support of step childre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LC can order maintenance payments if the blended family spits if they are a legal guardi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 adoption laws apply to adopt step childre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laim on estate, unless dependent. </a:t>
            </a:r>
            <a:endParaRPr b="0" lang="en-US" sz="32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e Sex relationship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people from the same sex share a </a:t>
            </a:r>
            <a:r>
              <a:rPr b="0" i="1" lang="en-US" sz="2800" spc="-1" strike="noStrike">
                <a:solidFill>
                  <a:srgbClr val="ffffff"/>
                </a:solidFill>
                <a:latin typeface="Tahoma"/>
              </a:rPr>
              <a:t>bona fide</a:t>
            </a:r>
            <a:r>
              <a:rPr b="0" lang="en-US" sz="2800" spc="-1" strike="noStrike">
                <a:solidFill>
                  <a:srgbClr val="ffffff"/>
                </a:solidFill>
                <a:latin typeface="Tahoma"/>
              </a:rPr>
              <a:t> (genuine) relationship (domestic and sexual).</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not be legally married under Australian Law</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itled to De Facto statu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5 gay male couple took NIB health fund to Equal Opportunity Tribunal stating they had be discriminated against by not being able to take out the ‘family’ option of their health cover. Found to have been discriminated against (</a:t>
            </a:r>
            <a:r>
              <a:rPr b="0" i="1" lang="en-US" sz="2800" spc="-1" strike="noStrike">
                <a:solidFill>
                  <a:srgbClr val="ffffff"/>
                </a:solidFill>
                <a:latin typeface="Tahoma"/>
              </a:rPr>
              <a:t>Brown V. NIB Health Fund Ltd. 1995</a:t>
            </a:r>
            <a:r>
              <a:rPr b="0" lang="en-US" sz="2800" spc="-1" strike="noStrike">
                <a:solidFill>
                  <a:srgbClr val="ffffff"/>
                </a:solidFill>
                <a:latin typeface="Tahoma"/>
              </a:rPr>
              <a:t>) C</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1:45:11Z</dcterms:created>
  <dc:creator>julia.young</dc:creator>
  <dc:description/>
  <dc:language>en-US</dc:language>
  <cp:lastModifiedBy>michael.bee</cp:lastModifiedBy>
  <dcterms:modified xsi:type="dcterms:W3CDTF">2010-05-02T11:53:51Z</dcterms:modified>
  <cp:revision>16</cp:revision>
  <dc:subject/>
  <dc:title>Alternative family arrangements</dc:title>
</cp:coreProperties>
</file>