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8C59A-D6CE-4231-BA9C-1C8B056DC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37524-A739-4180-9791-916AD34DF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B79B9-2512-49D1-906C-AF8AFB6FB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B4737A-6F3E-4312-A137-5A759C556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3AF06C-6A33-4D86-9987-671B084A5D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088E2-6B30-4CF4-B74D-597FEF75FC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F27DF7-6B98-454F-8469-AC80C96726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EDA86-1937-4BE1-8404-F225AE9EE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43F140-ABC1-4049-AF92-5BF319DA5F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06BC3-6CDE-472F-8896-1034A90352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47CC06-D023-49E7-9663-E3B4ED8E6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94C007-8FB3-495B-8B7B-5662F18670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427BF-026F-4B22-9822-3A0441199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C24B37-22F1-4A7D-8140-3A997768B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F1BCA-499D-41AD-9D42-2016C05C4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655893-2D8E-4AA1-AACD-C71AC98625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0AAAF5-9412-4DF4-ACA9-8482738924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C738C-4BEB-4555-B469-73201C5DA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723EB-F38D-4B73-A0CA-A63460451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DEB20-933C-411D-8E9E-F85E2020B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1871F-BE46-4E26-804F-ACA609293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8A7FC-6E45-4C6E-8CA6-9896908D5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7DCF2-4C22-4CB7-810F-E6CA8F477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A19A6-17E2-4335-86D3-32B2699A14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697A5-49DC-4341-83E7-2BE39C07960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75D5E-50CD-4F1B-816C-DC7CC82F149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lacextra.legalaid.nsw.gov.au/Publications/FileUpload/Doc/ImprintFile463.pdf"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mercatornet.com/articles/view/legalising_polygamy_for_muslims/"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lternative family arrangements</a:t>
            </a:r>
            <a:endParaRPr b="0" lang="en-US" sz="5400" spc="-1" strike="noStrike">
              <a:solidFill>
                <a:srgbClr val="ffffcc"/>
              </a:solidFill>
              <a:latin typeface="Tahoma"/>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n-nuclear families)</a:t>
            </a: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07"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scrimination – Not widely accepted in society</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doption – Still not permitted for gay couples to adopt. Gay people can adopt as a single pers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perty – did not have access to Family Law Act (1975) to resolve disputes</a:t>
            </a: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ver to you</a:t>
            </a:r>
            <a:endParaRPr b="0" lang="en-US" sz="4400" spc="-1" strike="noStrike">
              <a:solidFill>
                <a:srgbClr val="ffffcc"/>
              </a:solidFill>
              <a:latin typeface="Tahoma"/>
            </a:endParaRPr>
          </a:p>
        </p:txBody>
      </p:sp>
      <p:sp>
        <p:nvSpPr>
          <p:cNvPr id="10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e pages 254-55 to map chart changes in law responding to questions of rights of same-sex couples</a:t>
            </a:r>
            <a:endParaRPr b="0" lang="en-US" sz="32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st recent change</a:t>
            </a:r>
            <a:endParaRPr b="0" lang="en-US" sz="4400" spc="-1" strike="noStrike">
              <a:solidFill>
                <a:srgbClr val="ffffcc"/>
              </a:solidFill>
              <a:latin typeface="Tahoma"/>
            </a:endParaRPr>
          </a:p>
        </p:txBody>
      </p:sp>
      <p:sp>
        <p:nvSpPr>
          <p:cNvPr id="111"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3200" spc="-1" strike="noStrike">
                <a:solidFill>
                  <a:srgbClr val="ffffff"/>
                </a:solidFill>
                <a:latin typeface="Tahoma"/>
              </a:rPr>
              <a:t>Family Law Amendment (De Facto Financial Matters and Other Measures) Act</a:t>
            </a:r>
            <a:r>
              <a:rPr b="0" lang="en-AU" sz="3200" spc="-1" strike="noStrike">
                <a:solidFill>
                  <a:srgbClr val="ffffff"/>
                </a:solidFill>
                <a:latin typeface="Tahoma"/>
              </a:rPr>
              <a:t> 2008  - recognised de facto, incl same-sex, as equal in rights as marriage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Detailed information at: </a:t>
            </a:r>
            <a:r>
              <a:rPr b="0" lang="en-AU" sz="3200" spc="-1" strike="noStrike" u="sng">
                <a:solidFill>
                  <a:srgbClr val="ffcc66"/>
                </a:solidFill>
                <a:uFillTx/>
                <a:latin typeface="Tahoma"/>
                <a:hlinkClick r:id="rId1"/>
              </a:rPr>
              <a:t>http://lacextra.legalaid.nsw.gov.au/Publications/FileUpload/Doc/ImprintFile463.pdf</a:t>
            </a:r>
            <a:endParaRPr b="0" lang="en-US" sz="32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olygamous Marriages</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rriage Act 1961 (Cth) disallows this: </a:t>
            </a:r>
            <a:r>
              <a:rPr b="0" i="1" lang="en-US" sz="2400" spc="-1" strike="noStrike">
                <a:solidFill>
                  <a:srgbClr val="ffffff"/>
                </a:solidFill>
                <a:latin typeface="Tahoma"/>
              </a:rPr>
              <a:t>A  marriage is void if either of the parties was, at the time of the marriage lawfully married to some other person</a:t>
            </a:r>
            <a:endParaRPr b="0" lang="en-US" sz="24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re people have legally married 2 spouses overseas, the Australian Legal system recognises the 1</a:t>
            </a:r>
            <a:r>
              <a:rPr b="0" lang="en-US" sz="3200" spc="-1" strike="noStrike" baseline="30000">
                <a:solidFill>
                  <a:srgbClr val="ffffff"/>
                </a:solidFill>
                <a:latin typeface="Tahoma"/>
              </a:rPr>
              <a:t>st</a:t>
            </a:r>
            <a:r>
              <a:rPr b="0" lang="en-US" sz="3200" spc="-1" strike="noStrike">
                <a:solidFill>
                  <a:srgbClr val="ffffff"/>
                </a:solidFill>
                <a:latin typeface="Tahoma"/>
              </a:rPr>
              <a:t> marriage and the subsequent as de facto relationships (Family Law Act 1975 (Cth.)).</a:t>
            </a: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ssues</a:t>
            </a:r>
            <a:endParaRPr b="0" lang="en-US" sz="4400" spc="-1" strike="noStrike">
              <a:solidFill>
                <a:srgbClr val="ffffcc"/>
              </a:solidFill>
              <a:latin typeface="Tahoma"/>
            </a:endParaRPr>
          </a:p>
        </p:txBody>
      </p:sp>
      <p:sp>
        <p:nvSpPr>
          <p:cNvPr id="11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cially unaccepte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verse immigration means that people entering Australia are sometimes in polygamous relationship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oes it discriminate against race/religi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ad the linked article </a:t>
            </a:r>
            <a:r>
              <a:rPr b="0" lang="en-US" sz="3200" spc="-1" strike="noStrike" u="sng">
                <a:solidFill>
                  <a:srgbClr val="ffcc66"/>
                </a:solidFill>
                <a:uFillTx/>
                <a:latin typeface="Tahoma"/>
                <a:hlinkClick r:id="rId1"/>
              </a:rPr>
              <a:t>http://www.mercatornet.com/articles/view/legalising_polygamy_for_muslims/</a:t>
            </a:r>
            <a:endParaRPr b="0" lang="en-US" sz="32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 Facto </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 de facto relationship is defined in Section 4AA of the </a:t>
            </a:r>
            <a:r>
              <a:rPr b="0" i="1" lang="en-US" sz="2800" spc="-1" strike="noStrike">
                <a:solidFill>
                  <a:srgbClr val="ffffff"/>
                </a:solidFill>
                <a:latin typeface="Tahoma"/>
              </a:rPr>
              <a:t>Family Law Act 1975</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he law requires that you and your former partner, who may be of the same or opposite sex, had a relationship as a couple living together on a genuine domestic basi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relationship is not a de facto relationship if you were legally married to one another or if you are related by family.</a:t>
            </a: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uclear family becoming less commo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mportant that law is relevant to changing families</a:t>
            </a: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TSI People’s customary marriages</a:t>
            </a:r>
            <a:endParaRPr b="0" lang="en-US" sz="40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genous marriages are not recognised by Australian Law (refer to what constitutes a valid marriage)</a:t>
            </a: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igenous marriages have the following characteristic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occur between close relatives</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include more that 2 people</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irls younger than 18 may mar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be voluntary</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y not have a legally recognised celebrant</a:t>
            </a:r>
            <a:endParaRPr b="0" lang="en-US" sz="2800" spc="-1" strike="noStrike">
              <a:solidFill>
                <a:srgbClr val="ffffff"/>
              </a:solidFill>
              <a:latin typeface="Tahoma"/>
            </a:endParaRPr>
          </a:p>
          <a:p>
            <a:pPr marL="343080" indent="-343080">
              <a:spcBef>
                <a:spcPts val="700"/>
              </a:spcBef>
              <a:buClr>
                <a:srgbClr val="ffcc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ral tradition of recording details</a:t>
            </a:r>
            <a:endParaRPr b="0" lang="en-US" sz="28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RC released a report- Recognition of Aboriginal customary Laws 1986 (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Suggested these marriages be given de facto status.</a:t>
            </a:r>
            <a:endParaRPr b="0" lang="en-US" sz="32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ngle Parent Families</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n result from wha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7% of single parent families are headed by the female. (2006)</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egal issues include: discrimination, access to welfare, right to maintenance payments from non-residential parent, financial insecurity.</a:t>
            </a: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Blended Families</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anchor="t">
            <a:normAutofit fontScale="96000"/>
          </a:bodyPr>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uple live together (de facto or married) with children from a previous relationship</a:t>
            </a:r>
            <a:endParaRPr b="0" lang="en-US" sz="3200" spc="-1" strike="noStrike">
              <a:solidFill>
                <a:srgbClr val="ffffff"/>
              </a:solidFill>
              <a:latin typeface="Tahoma"/>
            </a:endParaRPr>
          </a:p>
          <a:p>
            <a:pPr marL="329040" indent="-3290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oncrete legal definition of ‘blended’ and ‘step’ families</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ssues: responsibility for step-children? Maintenance? Adoption? Inheritance? </a:t>
            </a:r>
            <a:endParaRPr b="0" lang="en-US" sz="3200" spc="-1" strike="noStrike">
              <a:solidFill>
                <a:srgbClr val="ffffff"/>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Outline how each of these is resolved.</a:t>
            </a:r>
            <a:endParaRPr b="0" lang="en-US" sz="32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ep parents are not responsible for child support of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LC can order maintenance payments if the blended family spits if they are a legal guardia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rmal adoption laws apply to adopt step children</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o claim on estate, unless dependent. </a:t>
            </a: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ame Sex relationships</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people from the same sex share a </a:t>
            </a:r>
            <a:r>
              <a:rPr b="0" i="1" lang="en-US" sz="2800" spc="-1" strike="noStrike">
                <a:solidFill>
                  <a:srgbClr val="ffffff"/>
                </a:solidFill>
                <a:latin typeface="Tahoma"/>
              </a:rPr>
              <a:t>bona fide</a:t>
            </a:r>
            <a:r>
              <a:rPr b="0" lang="en-US" sz="2800" spc="-1" strike="noStrike">
                <a:solidFill>
                  <a:srgbClr val="ffffff"/>
                </a:solidFill>
                <a:latin typeface="Tahoma"/>
              </a:rPr>
              <a:t> (genuine) relationship (domestic and sexual).</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n not be legally married under Australian Law</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titled to De Facto status</a:t>
            </a:r>
            <a:endParaRPr b="0" lang="en-US" sz="2800" spc="-1" strike="noStrike">
              <a:solidFill>
                <a:srgbClr val="ffffff"/>
              </a:solidFill>
              <a:latin typeface="Tahoma"/>
            </a:endParaRPr>
          </a:p>
          <a:p>
            <a:pPr marL="335880" indent="-3358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995 gay male couple took NIB health fund to Equal Opportunity Tribunal stating they had be discriminated against by not being able to take out the ‘family’ option of their health cover. Found to have been discriminated against (</a:t>
            </a:r>
            <a:r>
              <a:rPr b="0" i="1" lang="en-US" sz="2800" spc="-1" strike="noStrike">
                <a:solidFill>
                  <a:srgbClr val="ffffff"/>
                </a:solidFill>
                <a:latin typeface="Tahoma"/>
              </a:rPr>
              <a:t>Brown V. NIB Health Fund Ltd. 1995</a:t>
            </a:r>
            <a:r>
              <a:rPr b="0" lang="en-US" sz="2800" spc="-1" strike="noStrike">
                <a:solidFill>
                  <a:srgbClr val="ffffff"/>
                </a:solidFill>
                <a:latin typeface="Tahoma"/>
              </a:rPr>
              <a:t>) C</a:t>
            </a:r>
            <a:endParaRPr b="0" lang="en-US" sz="2800" spc="-1" strike="noStrike">
              <a:solidFill>
                <a:srgbClr val="ffffff"/>
              </a:solidFill>
              <a:latin typeface="Tahoma"/>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3T01:45:11Z</dcterms:created>
  <dc:creator>julia.young</dc:creator>
  <dc:description/>
  <dc:language>en-US</dc:language>
  <cp:lastModifiedBy>michael.bee</cp:lastModifiedBy>
  <dcterms:modified xsi:type="dcterms:W3CDTF">2010-05-02T11:53:51Z</dcterms:modified>
  <cp:revision>16</cp:revision>
  <dc:subject/>
  <dc:title>Alternative family arrangements</dc:title>
</cp:coreProperties>
</file>