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D9F43300-FF4D-4A41-B691-A1789D5990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D202CEC4-671D-4D77-B3B9-68E75E99DA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416E6AD8-2889-45DA-BE2B-86D6B794C6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2422166E-A335-4A0A-8B7D-8A544F049D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06CA48F6-489E-45AF-98B2-3E6CFE67F3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4159CAE3-A7CF-447F-ACBA-B7B9A28256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024D63C6-8830-4D20-BE06-A62BB70083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54BD0423-E5AB-4FB8-91FD-1968795AC9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5C6B63E9-D2C4-43FB-8BFC-BD606FCC23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A773757C-538B-4DF4-8D65-92A8040F185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BD514ED4-3B37-4E49-9D47-4C02CAD758D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EE7A4D75-4B76-464D-878C-B61C4A9FDE5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8BC9A6A3-BAF7-490F-A9AF-FCC60DFDBE2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4B97838-D225-469B-A467-2B60227872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BB59AAB-BE2B-4FB5-8F6A-1233421513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7EEE23A-3EED-4CB8-B59C-265A97FE6C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7408A14-E351-4C9B-9A1F-8EBB09DA16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F3EA996-AF4F-4705-9120-5682C376B3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F3D1FD7-4B3F-408D-AEC9-99E2E5B69F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1B61E23-0172-4B46-A103-9DDFAD937A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BC32F8A3-5E7A-4A88-A6E6-17C15CD60A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3FE207B-DDE5-4AD1-8336-5707199A0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8D00E07-F909-4345-981E-17068334C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2328741-2617-4214-919F-92DB651777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77892C6-08A5-4268-86C0-2653F477BF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DED6813-E33D-4809-B8EF-6D3CBA8788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308559-DF9F-4314-AABB-36A694AAAF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851A9B-E1CE-4BBB-98E9-DA9751359F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EA850E-7870-4CA5-AC8E-EA1BD400A6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E7D7A5-81C7-4EE4-834E-619AFB6EBD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243E15-50F2-4ED7-93DE-B41908EE2C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1D648808-FE6F-4C53-B934-D1A364C300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F08E73-0675-478E-BCFE-E81EFC3B51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94653C-1295-44E1-905D-AC279DCE18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5B49D8-4507-46F0-A92C-14057263F4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711254-FB52-4B95-968F-D3D1FB2B44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322972-7854-4D48-9428-212E63E520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C4773B-4530-42A0-8D80-2EA680CE72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7237B6-A763-4328-AF57-E08D36D14F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CBA2EB8-26E0-456B-8837-03A777E225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73F0EEC-960D-4EFB-93C5-078ED4DC74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D88B334-9F87-4FAF-A936-F3ED0683F5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4F89B18D-4FF3-4CC5-AD5D-2BAD7F2C51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7365CCE-97CE-4761-B6D1-E495EE0DBA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A60459C-93E3-44A0-9DF3-119F6E0BD7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3786778-E598-414A-9A55-77826DDDDB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7FD0D05-72DD-4F16-955E-264C7D897D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141C80F-6E81-4463-9E4F-CE7D3518CB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DFF1EB2-C9C8-43F5-84A3-FEB1FAC7BB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1D735EA-C492-4B8D-92B6-A2CA474EAA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89B6C20-ECF3-41B8-AEF4-A8F435D523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AC8E312-F9EE-4ACD-8781-85E03456A6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94EE85-8886-4713-BE5C-7F9F8A4C69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13CE65EB-1504-470E-B5DB-D4DA9A7ABE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4EC318-CB49-480F-AA1A-39B95BB010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884A11-7233-40F3-8394-00B13B6390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C82C94-7CA0-46FB-B9F7-5EAA409448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475172-C10D-4AF8-AF57-BDBF4F2E28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DEDDB1-C2EE-4630-975C-68374BC147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9CE534-6984-4C0A-BA56-3BB1D0151E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4CF159-F4CA-4D8F-8874-A945C43515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A6FE50-1059-40A3-AF1D-991F4636AA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C423A0-F805-43C3-9817-8FD10CDDEE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0F4D0C-AAA4-45DF-BCB6-792B2BB11E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AED81C5E-1563-4F42-9534-E262DEE6E1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1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72F5E2-AF51-4D00-873E-A48D8F3631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B293D99-90F0-4873-B3D8-0B73400045F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BC22A1-CAF4-4402-973E-551178350D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53E11D-7844-4081-A2FE-B5B9E1DD4A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98D21A-6F83-494D-B559-026C7FFDF7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1E973B-1C4D-4E63-B4CA-C34CC387C6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8DA67C-AA1F-4F19-91E5-4F97D81133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23672B-7F86-4AFB-B393-B06917979A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5C3191-01B9-49D2-9E33-E22ED396EB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F8C6EB-C0E4-4D05-BB2B-B9B482CB32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C024D878-C245-4B52-A43F-A16E933143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0BA7BD-990E-4D8F-BD00-4BAE37DA1C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9DB88E-0D1F-4AA5-8154-D04F122B600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BCEA38D-D8B7-401F-8329-9BC926BDCDA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6B718AE-C737-45E8-AEC1-9B1A43A010F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6F67AE-9D79-4E5D-AEC4-2F70761222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BF8B12-293C-4F80-A1CD-1D6B9C0422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CFCFA5-5639-4FE2-A448-7A0796E8EB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A75EC4-9552-44EB-977B-E891F4AAF8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B70476-CB59-4ECC-9123-2DB94BE7C9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331F3E-90EF-4FDE-84E1-E42644B43E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EF2AA49C-E728-41F4-BD82-DF29D0B4C9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15161E-AEEF-4705-AADF-3EA728B847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4830D9-91D0-403E-82C0-975F5F7ED2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CCE094-DAA8-4961-87D2-9042074D60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BA5223-719F-40B5-AE32-9907E0E703C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9354FFE-98E2-4FFB-8326-15355FEC445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544D8418-9242-462F-A47F-26514F5193F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5BD7C981-91F5-4196-AA47-118362BBC4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8D50DEB2-5117-4C45-BA3B-414AA9434A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C2C0AD5F-1A9F-425E-8F37-0459B322C9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85DBBE11-1466-4507-B415-74D8033EBD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EE898D22-BF29-45AD-8EAE-4A2C1B9D2E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77AA2B8E-D78C-4C6C-94E6-82CB718DF2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5AFB7767-A7ED-4974-8F24-2E72588AFF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B465EB0A-7533-43E9-B67F-5CED361248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2472D5EF-70FE-40F5-B156-A4E212A9DA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03CFECBD-A5B2-4468-931D-4812300B1D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C8ECA322-2DB9-4D4C-9AAC-63AE7F0DDDB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77F60287-0F23-4AC5-BF52-673935CDDA7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7E442B77-AB6B-451E-84DC-87CD82FC549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5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4E185ACA-2C50-4DCB-B6E8-EF281090FA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14234F75-CE40-49EB-A905-4284A96DB61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ound Diagonal Corner Rectangle 6"/>
          <p:cNvGrpSpPr/>
          <p:nvPr/>
        </p:nvGrpSpPr>
        <p:grpSpPr>
          <a:xfrm>
            <a:off x="152280" y="133200"/>
            <a:ext cx="8832960" cy="6591600"/>
            <a:chOff x="152280" y="133200"/>
            <a:chExt cx="8832960" cy="6591600"/>
          </a:xfrm>
        </p:grpSpPr>
        <p:pic>
          <p:nvPicPr>
            <p:cNvPr id="1" name="Round Diagonal Corner Rectangle 6" descr=""/>
            <p:cNvPicPr/>
            <p:nvPr/>
          </p:nvPicPr>
          <p:blipFill>
            <a:blip r:embed="rId3"/>
            <a:stretch/>
          </p:blipFill>
          <p:spPr>
            <a:xfrm>
              <a:off x="152280" y="133200"/>
              <a:ext cx="8832960" cy="659160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4A83C-3D94-4AB2-8606-7F1431AD574F}" type="slidenum">
              <a:rPr b="0" lang="en-AU"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ound Diagonal Corner Rectangle 7"/>
          <p:cNvGrpSpPr/>
          <p:nvPr/>
        </p:nvGrpSpPr>
        <p:grpSpPr>
          <a:xfrm>
            <a:off x="152280" y="133200"/>
            <a:ext cx="8839440" cy="2530800"/>
            <a:chOff x="152280" y="133200"/>
            <a:chExt cx="8839440" cy="2530800"/>
          </a:xfrm>
        </p:grpSpPr>
        <p:pic>
          <p:nvPicPr>
            <p:cNvPr id="45" name="Round Diagonal Corner Rectangle 7" descr=""/>
            <p:cNvPicPr/>
            <p:nvPr/>
          </p:nvPicPr>
          <p:blipFill>
            <a:blip r:embed="rId3"/>
            <a:stretch/>
          </p:blipFill>
          <p:spPr>
            <a:xfrm>
              <a:off x="152280" y="133200"/>
              <a:ext cx="8839440" cy="2530800"/>
            </a:xfrm>
            <a:prstGeom prst="rect">
              <a:avLst/>
            </a:prstGeom>
            <a:ln w="0">
              <a:noFill/>
            </a:ln>
          </p:spPr>
        </p:pic>
        <p:sp>
          <p:nvSpPr>
            <p:cNvPr id="46"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4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49"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50"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E7DF4-AF3D-4DA9-A649-8BFDAECA784F}" type="slidenum">
              <a:rPr b="0" lang="en-AU"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51"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Round Diagonal Corner Rectangle 6"/>
          <p:cNvGrpSpPr/>
          <p:nvPr/>
        </p:nvGrpSpPr>
        <p:grpSpPr>
          <a:xfrm>
            <a:off x="152280" y="133200"/>
            <a:ext cx="8832960" cy="6591600"/>
            <a:chOff x="152280" y="133200"/>
            <a:chExt cx="8832960" cy="6591600"/>
          </a:xfrm>
        </p:grpSpPr>
        <p:pic>
          <p:nvPicPr>
            <p:cNvPr id="89" name="Round Diagonal Corner Rectangle 6" descr=""/>
            <p:cNvPicPr/>
            <p:nvPr/>
          </p:nvPicPr>
          <p:blipFill>
            <a:blip r:embed="rId3"/>
            <a:stretch/>
          </p:blipFill>
          <p:spPr>
            <a:xfrm>
              <a:off x="152280" y="133200"/>
              <a:ext cx="8832960" cy="6591600"/>
            </a:xfrm>
            <a:prstGeom prst="rect">
              <a:avLst/>
            </a:prstGeom>
            <a:ln w="0">
              <a:noFill/>
            </a:ln>
          </p:spPr>
        </p:pic>
        <p:sp>
          <p:nvSpPr>
            <p:cNvPr id="90"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1"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9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94"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95"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C1E66-E93C-4F15-85B7-E414F3C07B47}" type="slidenum">
              <a:rPr b="0" lang="en-AU"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133" name="Rectangle 7"/>
          <p:cNvSpPr/>
          <p:nvPr/>
        </p:nvSpPr>
        <p:spPr>
          <a:xfrm>
            <a:off x="1000080" y="3267000"/>
            <a:ext cx="7407360" cy="972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3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36"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137"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46765-820A-4A06-8A80-4B74635DC32A}" type="slidenum">
              <a:rPr b="0" lang="en-AU"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138"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Round Diagonal Corner Rectangle 6"/>
          <p:cNvGrpSpPr/>
          <p:nvPr/>
        </p:nvGrpSpPr>
        <p:grpSpPr>
          <a:xfrm>
            <a:off x="152280" y="133200"/>
            <a:ext cx="8832960" cy="6591600"/>
            <a:chOff x="152280" y="133200"/>
            <a:chExt cx="8832960" cy="6591600"/>
          </a:xfrm>
        </p:grpSpPr>
        <p:pic>
          <p:nvPicPr>
            <p:cNvPr id="176" name="Round Diagonal Corner Rectangle 6" descr=""/>
            <p:cNvPicPr/>
            <p:nvPr/>
          </p:nvPicPr>
          <p:blipFill>
            <a:blip r:embed="rId3"/>
            <a:stretch/>
          </p:blipFill>
          <p:spPr>
            <a:xfrm>
              <a:off x="152280" y="133200"/>
              <a:ext cx="8832960" cy="6591600"/>
            </a:xfrm>
            <a:prstGeom prst="rect">
              <a:avLst/>
            </a:prstGeom>
            <a:ln w="0">
              <a:noFill/>
            </a:ln>
          </p:spPr>
        </p:pic>
        <p:sp>
          <p:nvSpPr>
            <p:cNvPr id="17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8"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8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81"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182"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CD7B3-F6A8-4730-8939-D572D3D612F9}" type="slidenum">
              <a:rPr b="0" lang="en-AU"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0" name="Round Diagonal Corner Rectangle 6"/>
          <p:cNvGrpSpPr/>
          <p:nvPr/>
        </p:nvGrpSpPr>
        <p:grpSpPr>
          <a:xfrm>
            <a:off x="152280" y="133200"/>
            <a:ext cx="8832960" cy="6591600"/>
            <a:chOff x="152280" y="133200"/>
            <a:chExt cx="8832960" cy="6591600"/>
          </a:xfrm>
        </p:grpSpPr>
        <p:pic>
          <p:nvPicPr>
            <p:cNvPr id="221" name="Round Diagonal Corner Rectangle 6" descr=""/>
            <p:cNvPicPr/>
            <p:nvPr/>
          </p:nvPicPr>
          <p:blipFill>
            <a:blip r:embed="rId3"/>
            <a:stretch/>
          </p:blipFill>
          <p:spPr>
            <a:xfrm>
              <a:off x="152280" y="133200"/>
              <a:ext cx="8832960" cy="6591600"/>
            </a:xfrm>
            <a:prstGeom prst="rect">
              <a:avLst/>
            </a:prstGeom>
            <a:ln w="0">
              <a:noFill/>
            </a:ln>
          </p:spPr>
        </p:pic>
        <p:sp>
          <p:nvSpPr>
            <p:cNvPr id="22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3" name="Rectangle 7"/>
          <p:cNvSpPr/>
          <p:nvPr/>
        </p:nvSpPr>
        <p:spPr>
          <a:xfrm>
            <a:off x="617400" y="216540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Rectangle 8"/>
          <p:cNvSpPr/>
          <p:nvPr/>
        </p:nvSpPr>
        <p:spPr>
          <a:xfrm>
            <a:off x="4800600" y="2165400"/>
            <a:ext cx="374976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27"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228"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D44E1-743F-4CF9-AF49-6F4C258B922D}" type="slidenum">
              <a:rPr b="0" lang="en-AU"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6" name="Round Diagonal Corner Rectangle 6"/>
          <p:cNvGrpSpPr/>
          <p:nvPr/>
        </p:nvGrpSpPr>
        <p:grpSpPr>
          <a:xfrm>
            <a:off x="152280" y="133200"/>
            <a:ext cx="8832960" cy="6591600"/>
            <a:chOff x="152280" y="133200"/>
            <a:chExt cx="8832960" cy="6591600"/>
          </a:xfrm>
        </p:grpSpPr>
        <p:pic>
          <p:nvPicPr>
            <p:cNvPr id="267" name="Round Diagonal Corner Rectangle 6" descr=""/>
            <p:cNvPicPr/>
            <p:nvPr/>
          </p:nvPicPr>
          <p:blipFill>
            <a:blip r:embed="rId3"/>
            <a:stretch/>
          </p:blipFill>
          <p:spPr>
            <a:xfrm>
              <a:off x="152280" y="133200"/>
              <a:ext cx="8832960" cy="6591600"/>
            </a:xfrm>
            <a:prstGeom prst="rect">
              <a:avLst/>
            </a:prstGeom>
            <a:ln w="0">
              <a:noFill/>
            </a:ln>
          </p:spPr>
        </p:pic>
        <p:sp>
          <p:nvSpPr>
            <p:cNvPr id="26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9"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7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72"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273"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8AA33-E943-494F-A40F-171E73D78C64}" type="slidenum">
              <a:rPr b="0" lang="en-AU"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311" name="Rectangle 7"/>
          <p:cNvSpPr/>
          <p:nvPr/>
        </p:nvSpPr>
        <p:spPr>
          <a:xfrm>
            <a:off x="5057640" y="105732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1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14"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315"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86A58-8C11-4B72-8F5D-3531AC0AEE83}" type="slidenum">
              <a:rPr b="0" lang="en-AU"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16"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55"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356"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8F7FD-E1BF-4702-8627-BCDD1A5F6713}" type="slidenum">
              <a:rPr b="0" lang="en-AU"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57"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Title 1" descr=""/>
          <p:cNvPicPr/>
          <p:nvPr/>
        </p:nvPicPr>
        <p:blipFill>
          <a:blip r:embed="rId1"/>
          <a:stretch/>
        </p:blipFill>
        <p:spPr>
          <a:xfrm>
            <a:off x="457200" y="378000"/>
            <a:ext cx="8510760" cy="2232000"/>
          </a:xfrm>
          <a:prstGeom prst="rect">
            <a:avLst/>
          </a:prstGeom>
          <a:ln w="0">
            <a:noFill/>
          </a:ln>
        </p:spPr>
      </p:pic>
      <p:pic>
        <p:nvPicPr>
          <p:cNvPr id="395" name="Picture 3" descr="E:\SD152-Aboriginal-flag-wavin.jpg"/>
          <p:cNvPicPr/>
          <p:nvPr/>
        </p:nvPicPr>
        <p:blipFill>
          <a:blip r:embed="rId2">
            <a:lum bright="-62000"/>
          </a:blip>
          <a:stretch/>
        </p:blipFill>
        <p:spPr>
          <a:xfrm>
            <a:off x="2428920" y="3071880"/>
            <a:ext cx="4143240" cy="303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Title 1" descr=""/>
          <p:cNvPicPr/>
          <p:nvPr/>
        </p:nvPicPr>
        <p:blipFill>
          <a:blip r:embed="rId1"/>
          <a:stretch/>
        </p:blipFill>
        <p:spPr>
          <a:xfrm>
            <a:off x="450720" y="249120"/>
            <a:ext cx="8491680" cy="1158840"/>
          </a:xfrm>
          <a:prstGeom prst="rect">
            <a:avLst/>
          </a:prstGeom>
          <a:ln w="0">
            <a:noFill/>
          </a:ln>
        </p:spPr>
      </p:pic>
      <p:graphicFrame>
        <p:nvGraphicFramePr>
          <p:cNvPr id="397" name=""/>
          <p:cNvGraphicFramePr/>
          <p:nvPr/>
        </p:nvGraphicFramePr>
        <p:xfrm>
          <a:off x="428760" y="1714680"/>
          <a:ext cx="8229600" cy="2571480"/>
        </p:xfrm>
        <a:graphic>
          <a:graphicData uri="http://schemas.openxmlformats.org/drawingml/2006/table">
            <a:tbl>
              <a:tblPr/>
              <a:tblGrid>
                <a:gridCol w="1757160"/>
                <a:gridCol w="2714760"/>
                <a:gridCol w="3757680"/>
              </a:tblGrid>
              <a:tr h="954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a37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Rockwell"/>
                        </a:rPr>
                        <a:t>AUSTRALIAN POPULATION:</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a37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Rockwell"/>
                        </a:rPr>
                        <a:t>AUSTRALIAN PRISON POPULATION:</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a376"/>
                    </a:solidFill>
                  </a:tcPr>
                </a:tc>
              </a:tr>
              <a:tr h="663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Rockwell"/>
                        </a:rPr>
                        <a:t>200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Rockwell"/>
                        </a:rPr>
                        <a:t>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Rockwell"/>
                        </a:rPr>
                        <a:t>1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r>
              <a:tr h="954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Rockwell"/>
                        </a:rPr>
                        <a:t>200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Rockwell"/>
                        </a:rPr>
                        <a:t>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Rockwel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600" spc="-1" strike="noStrike">
              <a:solidFill>
                <a:srgbClr val="e7eacb"/>
              </a:solidFill>
              <a:latin typeface="Rockwell"/>
            </a:endParaRPr>
          </a:p>
        </p:txBody>
      </p:sp>
      <p:sp>
        <p:nvSpPr>
          <p:cNvPr id="399"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ffffff"/>
                </a:solidFill>
                <a:latin typeface="Rockwell"/>
              </a:rPr>
              <a:t>1.Offence criminalisation</a:t>
            </a:r>
            <a:r>
              <a:rPr b="0" lang="en-AU" sz="2700" spc="-1" strike="noStrike">
                <a:solidFill>
                  <a:srgbClr val="ffffff"/>
                </a:solidFill>
                <a:latin typeface="Rockwell"/>
              </a:rPr>
              <a:t>- ATSI are 15 times more likely to be charged for swearing or behaving disrespectfully in their community. </a:t>
            </a:r>
            <a:endParaRPr b="0" lang="en-US" sz="27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ffffff"/>
                </a:solidFill>
                <a:latin typeface="Rockwell"/>
              </a:rPr>
              <a:t>2.</a:t>
            </a:r>
            <a:r>
              <a:rPr b="1" lang="en-AU" sz="2700" spc="-1" strike="noStrike">
                <a:solidFill>
                  <a:srgbClr val="ffffff"/>
                </a:solidFill>
                <a:latin typeface="Rockwell"/>
              </a:rPr>
              <a:t> The social and economic situation-</a:t>
            </a:r>
            <a:r>
              <a:rPr b="0" lang="en-AU" sz="2700" spc="-1" strike="noStrike">
                <a:solidFill>
                  <a:srgbClr val="ffffff"/>
                </a:solidFill>
                <a:latin typeface="Rockwell"/>
              </a:rPr>
              <a:t>Poverty and unemployment, particularly for young aboriginal people or in rural and remote areas. </a:t>
            </a:r>
            <a:endParaRPr b="0" lang="en-US" sz="27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ffffff"/>
                </a:solidFill>
                <a:latin typeface="Rockwell"/>
              </a:rPr>
              <a:t>3. Lack of language skills-</a:t>
            </a:r>
            <a:r>
              <a:rPr b="0" lang="en-AU" sz="2700" spc="-1" strike="noStrike">
                <a:solidFill>
                  <a:srgbClr val="ffffff"/>
                </a:solidFill>
                <a:latin typeface="Rockwell"/>
              </a:rPr>
              <a:t>Some Aboriginal people are sentenced to jail without them fully understanding the court process.</a:t>
            </a:r>
            <a:endParaRPr b="0" lang="en-US" sz="27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600" spc="-1" strike="noStrike">
              <a:solidFill>
                <a:srgbClr val="e7eacb"/>
              </a:solidFill>
              <a:latin typeface="Rockwell"/>
            </a:endParaRPr>
          </a:p>
        </p:txBody>
      </p:sp>
      <p:sp>
        <p:nvSpPr>
          <p:cNvPr id="401"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Rockwell"/>
              </a:rPr>
              <a:t>An indigenous person is 14 times more likely to be locked up in prison than a non-indigenous person.</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Rockwell"/>
              </a:rPr>
              <a:t>Lower life spans </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Rockwell"/>
              </a:rPr>
              <a:t>Higher unemployment</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Rockwell"/>
              </a:rPr>
              <a:t>An over representation within our corrective services</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Title 1" descr=""/>
          <p:cNvPicPr/>
          <p:nvPr/>
        </p:nvPicPr>
        <p:blipFill>
          <a:blip r:embed="rId1"/>
          <a:stretch/>
        </p:blipFill>
        <p:spPr>
          <a:xfrm>
            <a:off x="450720" y="249120"/>
            <a:ext cx="8491680" cy="1158840"/>
          </a:xfrm>
          <a:prstGeom prst="rect">
            <a:avLst/>
          </a:prstGeom>
          <a:ln w="0">
            <a:noFill/>
          </a:ln>
        </p:spPr>
      </p:pic>
      <p:pic>
        <p:nvPicPr>
          <p:cNvPr id="403" name="Picture 2" descr="E:\2002_abs_sentenced.ashx.gif"/>
          <p:cNvPicPr/>
          <p:nvPr/>
        </p:nvPicPr>
        <p:blipFill>
          <a:blip r:embed="rId2"/>
          <a:stretch/>
        </p:blipFill>
        <p:spPr>
          <a:xfrm>
            <a:off x="1335240" y="1852560"/>
            <a:ext cx="6735600" cy="793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Title 1" descr=""/>
          <p:cNvPicPr/>
          <p:nvPr/>
        </p:nvPicPr>
        <p:blipFill>
          <a:blip r:embed="rId1"/>
          <a:stretch/>
        </p:blipFill>
        <p:spPr>
          <a:xfrm>
            <a:off x="450720" y="249120"/>
            <a:ext cx="8680680" cy="1165320"/>
          </a:xfrm>
          <a:prstGeom prst="rect">
            <a:avLst/>
          </a:prstGeom>
          <a:ln w="0">
            <a:noFill/>
          </a:ln>
        </p:spPr>
      </p:pic>
      <p:sp>
        <p:nvSpPr>
          <p:cNvPr id="405"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ffffff"/>
                </a:solidFill>
                <a:latin typeface="Rockwell"/>
              </a:rPr>
              <a:t>ATSI are over represented because of unequal positioning in Australian society mainly in these three areas;</a:t>
            </a:r>
            <a:endParaRPr b="0" lang="en-US" sz="2700" spc="-1" strike="noStrike">
              <a:solidFill>
                <a:srgbClr val="ffffff"/>
              </a:solidFill>
              <a:latin typeface="Rockwell"/>
            </a:endParaRPr>
          </a:p>
          <a:p>
            <a:pPr marL="291960" indent="-291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Rockwell"/>
              </a:rPr>
              <a:t>Socially- disconnected from other nationality groups and rejected in society</a:t>
            </a:r>
            <a:endParaRPr b="0" lang="en-US" sz="26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Rockwell"/>
              </a:rPr>
              <a:t>Economically- no education leading to no employment</a:t>
            </a:r>
            <a:endParaRPr b="0" lang="en-US" sz="26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Rockwell"/>
              </a:rPr>
              <a:t>Culturally- going back to when the Aboriginal people were taken away from their land (Stolen Generation)</a:t>
            </a:r>
            <a:endParaRPr b="0" lang="en-US" sz="26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Title 1" descr=""/>
          <p:cNvPicPr/>
          <p:nvPr/>
        </p:nvPicPr>
        <p:blipFill>
          <a:blip r:embed="rId1"/>
          <a:stretch/>
        </p:blipFill>
        <p:spPr>
          <a:xfrm>
            <a:off x="450720" y="249120"/>
            <a:ext cx="8541000" cy="1165320"/>
          </a:xfrm>
          <a:prstGeom prst="rect">
            <a:avLst/>
          </a:prstGeom>
          <a:ln w="0">
            <a:noFill/>
          </a:ln>
        </p:spPr>
      </p:pic>
      <p:sp>
        <p:nvSpPr>
          <p:cNvPr id="407"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Rockwell"/>
              </a:rPr>
              <a:t>“</a:t>
            </a:r>
            <a:r>
              <a:rPr b="0" lang="en-AU" sz="3200" spc="-1" strike="noStrike">
                <a:solidFill>
                  <a:srgbClr val="ffffff"/>
                </a:solidFill>
                <a:latin typeface="Rockwell"/>
              </a:rPr>
              <a:t>Every day of the week we act for aboriginal people who’ve been charged with disorderly conduct, their main crime is swearing at the police. They use the F and C word excessively. Often because they are drunk or affected by drugs, or both, or they’ve got a mental illness or they’re homeless or whatever” </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Title 1" descr=""/>
          <p:cNvPicPr/>
          <p:nvPr/>
        </p:nvPicPr>
        <p:blipFill>
          <a:blip r:embed="rId1"/>
          <a:stretch/>
        </p:blipFill>
        <p:spPr>
          <a:xfrm>
            <a:off x="450720" y="249120"/>
            <a:ext cx="8491680" cy="1158840"/>
          </a:xfrm>
          <a:prstGeom prst="rect">
            <a:avLst/>
          </a:prstGeom>
          <a:ln w="0">
            <a:noFill/>
          </a:ln>
        </p:spPr>
      </p:pic>
      <p:graphicFrame>
        <p:nvGraphicFramePr>
          <p:cNvPr id="409" name=""/>
          <p:cNvGraphicFramePr/>
          <p:nvPr/>
        </p:nvGraphicFramePr>
        <p:xfrm>
          <a:off x="457200" y="1646280"/>
          <a:ext cx="8229600" cy="4746600"/>
        </p:xfrm>
        <a:graphic>
          <a:graphicData uri="http://schemas.openxmlformats.org/drawingml/2006/table">
            <a:tbl>
              <a:tblPr/>
              <a:tblGrid>
                <a:gridCol w="4114800"/>
                <a:gridCol w="4114800"/>
              </a:tblGrid>
              <a:tr h="99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Rockwell"/>
                        </a:rPr>
                        <a:t>CUSTOMARY LAW</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a37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Rockwell"/>
                        </a:rPr>
                        <a:t>CRIMINAL LAW</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a376"/>
                    </a:solidFill>
                  </a:tcPr>
                </a:tc>
              </a:tr>
              <a:tr h="3747960">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Rockwell"/>
                        </a:rPr>
                        <a:t>Violence by Aboriginal men against their female partners is very common</a:t>
                      </a:r>
                      <a:endParaRPr b="0" lang="en-US" sz="16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Rockwell"/>
                        </a:rPr>
                        <a:t>Some of this behaviour is accepted as a method of redressing wrongs and restoring social harmony often known as “payback”</a:t>
                      </a:r>
                      <a:endParaRPr b="0" lang="en-US" sz="16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Rockwell"/>
                        </a:rPr>
                        <a:t>Pleas to lesser charges have been accepted because of the fact that Aboriginal customary law has applied to Aboriginal people, because it is their way of life and rules to follow within their cultur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Rockwell"/>
                        </a:rPr>
                        <a:t>Criminal law in Australia does not allow violence between people regardless  of the situation</a:t>
                      </a:r>
                      <a:endParaRPr b="0" lang="en-US" sz="16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Rockwell"/>
                        </a:rPr>
                        <a:t>If self defence the court attempts to look around the situati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8T19:48:00Z</dcterms:created>
  <dc:creator>chrissy</dc:creator>
  <dc:description/>
  <dc:language>en-US</dc:language>
  <cp:lastModifiedBy>pamela harvey</cp:lastModifiedBy>
  <dcterms:modified xsi:type="dcterms:W3CDTF">2010-03-15T10:45:05Z</dcterms:modified>
  <cp:revision>53</cp:revision>
  <dc:subject/>
  <dc:title>ATSI and the criminal justice system</dc:title>
</cp:coreProperties>
</file>