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E543100B-3891-4AF8-A256-B593E0C3E4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649E7286-38C4-443D-8076-D027894C24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AAE76310-8F14-404D-8366-57EBFB119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19498EC-B19A-43E8-848B-EBC76371AF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D99A2BF8-6F17-4BC1-BAA6-6C6B497E6B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8675536-0607-4AAA-B399-E2C89151D7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15CE717-CDB8-4CCA-92D8-211311B372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BA6BF2B9-E52D-4369-88E0-11E42E9131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5520A876-1F4C-46BE-84C2-1928ADEFD3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A8A2DD98-16E6-4F6E-8C7B-5D438D24D3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353FF670-90BF-40DE-87A0-7D4176BE9FF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1FBF2678-0580-4F8A-B92B-05CFD92031BD}"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4647FF8B-2982-4877-B0D6-BDFFAC571C39}"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A116785C-8E8E-4670-927D-6A0516EF58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B82E30D-0D13-4563-8DBD-E738567629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AD9DC4-6E46-46C7-8A73-7A9B2C0BFB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E624C66-0488-4334-AFE8-B9186AD56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9C3ED06-3C77-43D1-84E6-F1B92AEF7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69C09EE-9203-42C5-9D17-057DB62B1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A403A95-BC4C-4E2E-B4F6-DD07486C1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62BFF3CA-EED8-4EE7-9B75-C74AE149DB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3D6239B-F59B-4036-8709-EAC9FDB1C7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6814692-F941-4DA7-A028-9DAF0C7E6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92D584-4118-4D24-9D9F-AA9895F82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F14A14-8005-461D-B9E0-B5583573B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5374488-C600-4858-A34F-4D23A9747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E0A159-6615-4682-9C2E-7D3F282CC8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2EF3F-AE08-4FE7-AD51-61514B1AA3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40573-2C0E-4535-971F-FB706B5F13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AD7F02-397D-4A92-9515-67665DD4148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066386-3760-4470-93AA-96E1F380AC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A01C4EE-2824-4B4B-98A1-5C7638BAB0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553F2A-B756-4AAC-B750-DD2BBCAC8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1F02C-9F3C-47C2-816E-2644239CD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48B3F4-5808-41B9-B781-299EC827CC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4CFD85-6BF6-4E13-85B2-7785AADF41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57E818-8E07-4189-9D9F-07D12F40FC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752DE2-3397-482F-8E0D-A6FCE6B81E2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8EAB84-C496-408C-8257-953F3F40973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A32EC8D-C871-49E3-A49E-09D0E6FBE07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E4A368-78DD-4928-9AB9-79D4B29CD2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2C330F-6C2D-4BE9-8077-7D4C86114C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B1288F11-5548-4D06-9000-86F92DE67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B629305-C2C2-4D5A-9A46-890C94635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2A20343-4E0C-4595-9AE3-F956A2AFA3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8D7D399-7740-44B8-BC48-9E6265737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25AA161-BCD8-40A1-9BEF-DEA4F2A229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0A0215D-46F9-46ED-9DDF-32A68ADD4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1896EA2-AFBA-474A-8EE1-9927E9C5D8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CB46D31-0309-4983-97E5-224CF511C2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BEA4027-FCD8-4996-9DFC-51A1FF107C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D1E9036-6FAE-4832-B027-A3913D81AA2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7385F9-CEC5-41C0-A34A-8017B2DB26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69F186B1-9D24-424C-A94A-B9CA1FC019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45CDE6-88AE-43F9-A1C0-6A5AAC0CF2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3FC56-7459-4432-920C-EAD077439D3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0E3488-6BF5-488F-8DC8-51B1A319CD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4969FC-8FB1-41D0-9E7A-31D1932763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04F85C-0211-49DA-95A1-30DB35F094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D6F89D-99EC-4431-AE46-8036C71FE5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B07E0-C645-4995-959D-676FF6EDF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8E670-FCBB-4920-B018-F01819E88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B14F1C-8044-4DDB-9779-B56A7DC019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3B5789-788C-4369-B848-03A0811CDF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EE278F3-4A80-42D2-B83B-8E07BD2F68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6C3541-A576-4E19-BD55-B1E96DB571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B5D553-BCD7-45E8-AA36-8B3B0253798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A9CC34-8942-4209-A997-F32D12436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0519DB-60AF-4E09-93C7-B9B05F3234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A78A271-920D-4986-A051-C4C419F0F2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A51ACF-AE7F-4736-BD8B-3449C5E90E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41423B-8C22-4D97-BB1C-886230EA88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6BFF37-E532-41C6-A7BD-7DE04E3A0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4F8C81-8A4F-45BD-B495-7F74E5CC2B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B8F612-DA70-4D80-B4F2-48F95B2D5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5C26697-E00E-4DA5-B423-F51F9874AA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8DB471-C0F2-4E8C-B320-5030A53646D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2F445A-9600-43F7-A4EB-43AFA6841B0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84B3F44-CFEA-4D87-B343-7117C5C2D1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9F70130-FD9B-41E9-AD04-20CB3D1DA6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194A84-80E0-499C-9375-2ABD1FF50D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D088DA-F473-4DCE-B147-F73A5A9C358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9C0FC-EEBB-4B3D-A25E-ADC6557CFF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90AB0A-4643-45F8-A5F1-CAB02F8C7D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090DB5-25F5-4505-B99E-0ED335410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183ED2-5691-4BE7-A124-1D8D9C98BA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B7165435-A4BE-4015-9FAA-EB22C7B299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B4C98B-D6BB-4505-960B-00E9ADA941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10F6F9-F645-40BD-847A-7F519CBE90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13AFD9-2FC5-4445-8C2E-5FFFF9D1D9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5E0249-2042-4B4A-AE8E-A6A45D8567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67BF53B-B274-44A1-970E-9D1ED89D479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BFCBBAF-B8D9-4581-9359-94A947AC53A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4EE4A28-CC2A-4508-A1D7-06144D78F8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956C0A8A-99E7-4F73-91F7-0F8889BC55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7C6DCA1-4588-47B8-85A1-C9753B8BB5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3A653EC-9E96-4881-A79A-B9C85760B8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F17829B1-198D-419A-8F6F-44E6FE0E67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19AF44FB-99B7-4925-8267-0F6D1F55A6F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4858675-BA4E-445C-B139-CB7B8F6847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1DDE70A-5619-44F5-94E3-2A9F488D56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9AA6BC83-5E73-42AA-A3DF-2676B79041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ADB76D2-5746-4376-ACCB-F305F38401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17FBFF3-4868-48C0-BACB-BCBEA93B8C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E71296E-2D86-489A-BA97-1D1C8A5E1F7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E4D46C62-CC65-40FD-B2E3-2331A787AE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529960B-E4A2-409E-8C33-022B79DB88A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8DB8B6F1-B488-4D21-AF04-84CC69D2300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A750C-F701-42CF-8DD4-7556C333AC53}"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559EB-D9BE-4695-BC8D-339AE19A2E12}"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BC0D9-9261-46A1-BFA6-C82308C65FC4}"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74D70-2A44-4D57-9ED2-DD58F52986C1}"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10520-8FCA-4439-B9EC-D7564D2EE90E}"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0964D-21A9-4990-9776-6F546313711C}"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4E263-37FF-4863-8B10-25AAC8064BB8}"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7D017-D40B-4CA2-8B54-0326CE70813A}"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CE1C-2413-448B-BA67-A298C0F2BFA9}"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7200" y="378000"/>
            <a:ext cx="8510760" cy="2232000"/>
          </a:xfrm>
          <a:prstGeom prst="rect">
            <a:avLst/>
          </a:prstGeom>
          <a:ln w="0">
            <a:noFill/>
          </a:ln>
        </p:spPr>
      </p:pic>
      <p:pic>
        <p:nvPicPr>
          <p:cNvPr id="395" name="Picture 3" descr="E:\SD152-Aboriginal-flag-wavin.jpg"/>
          <p:cNvPicPr/>
          <p:nvPr/>
        </p:nvPicPr>
        <p:blipFill>
          <a:blip r:embed="rId2">
            <a:lum bright="-62000"/>
          </a:blip>
          <a:stretch/>
        </p:blipFill>
        <p:spPr>
          <a:xfrm>
            <a:off x="2428920" y="3071880"/>
            <a:ext cx="4143240" cy="30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0720" y="249120"/>
            <a:ext cx="8491680" cy="1158840"/>
          </a:xfrm>
          <a:prstGeom prst="rect">
            <a:avLst/>
          </a:prstGeom>
          <a:ln w="0">
            <a:noFill/>
          </a:ln>
        </p:spPr>
      </p:pic>
      <p:graphicFrame>
        <p:nvGraphicFramePr>
          <p:cNvPr id="397" name=""/>
          <p:cNvGraphicFramePr/>
          <p:nvPr/>
        </p:nvGraphicFramePr>
        <p:xfrm>
          <a:off x="428760" y="1714680"/>
          <a:ext cx="8229600" cy="2571480"/>
        </p:xfrm>
        <a:graphic>
          <a:graphicData uri="http://schemas.openxmlformats.org/drawingml/2006/table">
            <a:tbl>
              <a:tblPr/>
              <a:tblGrid>
                <a:gridCol w="1757160"/>
                <a:gridCol w="2714760"/>
                <a:gridCol w="3757680"/>
              </a:tblGrid>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RISO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66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39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1.Offence criminalisation</a:t>
            </a:r>
            <a:r>
              <a:rPr b="0" lang="en-AU" sz="2700" spc="-1" strike="noStrike">
                <a:solidFill>
                  <a:srgbClr val="ffffff"/>
                </a:solidFill>
                <a:latin typeface="Rockwell"/>
              </a:rPr>
              <a:t>- ATSI are 15 times more likely to be charged for swearing or behaving disrespectfully in their community.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2.</a:t>
            </a:r>
            <a:r>
              <a:rPr b="1" lang="en-AU" sz="2700" spc="-1" strike="noStrike">
                <a:solidFill>
                  <a:srgbClr val="ffffff"/>
                </a:solidFill>
                <a:latin typeface="Rockwell"/>
              </a:rPr>
              <a:t> The social and economic situation-</a:t>
            </a:r>
            <a:r>
              <a:rPr b="0" lang="en-AU" sz="2700" spc="-1" strike="noStrike">
                <a:solidFill>
                  <a:srgbClr val="ffffff"/>
                </a:solidFill>
                <a:latin typeface="Rockwell"/>
              </a:rPr>
              <a:t>Poverty and unemployment, particularly for young aboriginal people or in rural and remote areas.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3. Lack of language skills-</a:t>
            </a:r>
            <a:r>
              <a:rPr b="0" lang="en-AU" sz="2700" spc="-1" strike="noStrike">
                <a:solidFill>
                  <a:srgbClr val="ffffff"/>
                </a:solidFill>
                <a:latin typeface="Rockwell"/>
              </a:rPr>
              <a:t>Some Aboriginal people are sentenced to jail without them fully understanding the court process.</a:t>
            </a:r>
            <a:endParaRPr b="0" lang="en-US" sz="27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401"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indigenous person is 14 times more likely to be locked up in prison than a non-indigenous pers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Lower life spans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igher unemploymen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over representation within our corrective service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0720" y="249120"/>
            <a:ext cx="8491680" cy="1158840"/>
          </a:xfrm>
          <a:prstGeom prst="rect">
            <a:avLst/>
          </a:prstGeom>
          <a:ln w="0">
            <a:noFill/>
          </a:ln>
        </p:spPr>
      </p:pic>
      <p:pic>
        <p:nvPicPr>
          <p:cNvPr id="403" name="Picture 2" descr="E:\2002_abs_sentenced.ashx.gif"/>
          <p:cNvPicPr/>
          <p:nvPr/>
        </p:nvPicPr>
        <p:blipFill>
          <a:blip r:embed="rId2"/>
          <a:stretch/>
        </p:blipFill>
        <p:spPr>
          <a:xfrm>
            <a:off x="1335240" y="1852560"/>
            <a:ext cx="6735600" cy="793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0720" y="249120"/>
            <a:ext cx="8680680" cy="1165320"/>
          </a:xfrm>
          <a:prstGeom prst="rect">
            <a:avLst/>
          </a:prstGeom>
          <a:ln w="0">
            <a:noFill/>
          </a:ln>
        </p:spPr>
      </p:pic>
      <p:sp>
        <p:nvSpPr>
          <p:cNvPr id="40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ATSI are over represented because of unequal positioning in Australian society mainly in these three areas;</a:t>
            </a:r>
            <a:endParaRPr b="0" lang="en-US" sz="27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Socially- disconnected from other nationality groups and rejected in society</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Economically- no education leading to no employment</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Culturally- going back to when the Aboriginal people were taken away from their land (Stolen Generation)</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450720" y="249120"/>
            <a:ext cx="8541000" cy="1165320"/>
          </a:xfrm>
          <a:prstGeom prst="rect">
            <a:avLst/>
          </a:prstGeom>
          <a:ln w="0">
            <a:noFill/>
          </a:ln>
        </p:spPr>
      </p:pic>
      <p:sp>
        <p:nvSpPr>
          <p:cNvPr id="40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t>
            </a:r>
            <a:r>
              <a:rPr b="0" lang="en-AU" sz="3200" spc="-1" strike="noStrike">
                <a:solidFill>
                  <a:srgbClr val="ffffff"/>
                </a:solidFill>
                <a:latin typeface="Rockwell"/>
              </a:rPr>
              <a:t>Every day of the week we act for aboriginal people who’ve been charged with disorderly conduct, their main crime is swearing at the police. They use the F and C word excessively. Often because they are drunk or affected by drugs, or both, or they’ve got a mental illness or they’re homeless or whatever”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0720" y="249120"/>
            <a:ext cx="8491680" cy="1158840"/>
          </a:xfrm>
          <a:prstGeom prst="rect">
            <a:avLst/>
          </a:prstGeom>
          <a:ln w="0">
            <a:noFill/>
          </a:ln>
        </p:spPr>
      </p:pic>
      <p:graphicFrame>
        <p:nvGraphicFramePr>
          <p:cNvPr id="409" name=""/>
          <p:cNvGraphicFramePr/>
          <p:nvPr/>
        </p:nvGraphicFramePr>
        <p:xfrm>
          <a:off x="457200" y="1646280"/>
          <a:ext cx="8229600" cy="4746600"/>
        </p:xfrm>
        <a:graphic>
          <a:graphicData uri="http://schemas.openxmlformats.org/drawingml/2006/table">
            <a:tbl>
              <a:tblPr/>
              <a:tblGrid>
                <a:gridCol w="4114800"/>
                <a:gridCol w="4114800"/>
              </a:tblGrid>
              <a:tr h="99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USTOMARY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RIMINAL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7479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Violence by Aboriginal men against their female partners is very comm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Some of this behaviour is accepted as a method of redressing wrongs and restoring social harmony often known as “payback”</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Pleas to lesser charges have been accepted because of the fact that Aboriginal customary law has applied to Aboriginal people, because it is their way of life and rules to follow within their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Criminal law in Australia does not allow violence between people regardless  of the situati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If self defence the court attempts to look around the sit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9:48:00Z</dcterms:created>
  <dc:creator>chrissy</dc:creator>
  <dc:description/>
  <dc:language>en-US</dc:language>
  <cp:lastModifiedBy>pamela harvey</cp:lastModifiedBy>
  <dcterms:modified xsi:type="dcterms:W3CDTF">2010-03-15T10:45:05Z</dcterms:modified>
  <cp:revision>53</cp:revision>
  <dc:subject/>
  <dc:title>ATSI and the criminal justice system</dc:title>
</cp:coreProperties>
</file>