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2DCB-68D4-42EC-B9C5-D5ED903BC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6E68-6B24-4151-9326-4263B83A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6AFB-5537-444E-B7D3-3776CECB7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DDE7-4B65-4DA1-8F9D-543A8EA0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01DD-02A6-4D0E-828A-12E584DF2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1A39-C7A4-454B-A125-5940CB03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97CA-D784-4EBA-BDAE-4F3E57FF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76A96-E731-461D-85CD-500A57B1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3B577-6000-4F5E-93CA-6C4E26AC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2E8A-BE02-499F-BE56-3BCDC42E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1A83C-B1A8-41B0-B5E1-B7487B83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FC67-D534-4AED-8FB4-BBC3F5F1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94DB-229D-4F9D-80D4-03A93873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3D05-2421-4C71-A243-CB076817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5B92-04D9-49D8-9C1E-B8EE5CB7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2226-8F12-40C0-AA3E-E4F8E4313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7EF3-11B9-47A5-9706-656135485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5388E-CCB0-4D07-9BAF-AD01ACC72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DE960-D7E1-44FB-92E2-21725A6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13D8-08C5-4213-8EF2-98141F73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F4152-FECC-439A-98AC-D3410E56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57E46-AFF4-48A2-8681-EC9EE2D5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BA44A-DF0C-4475-A336-66E90E78C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8635-A15E-49D4-8962-9DC20216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AD0B4-2A1C-4F5A-ABBC-80CBCB73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77D2F-68C9-4465-BD32-72B18A3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A5360-8183-47A4-A2A6-52DC3695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8491E-7217-4B67-ACE6-E7FA48A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D018B4-64AE-480B-A387-6ECEBBFAE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C8CEC9-300E-41DE-B6BD-EFA1FD11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A0045-0B94-421F-8310-AF78229D2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7CF3B-F3F3-4346-BF28-FCB9BACD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58E4B-182C-4A11-ACDB-73BC6FF7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F456-7383-4286-A8AA-9C119A13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54E264-C39D-4D5C-9F9C-FCB93E8F9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982E2-2493-4C70-BF67-23EA4484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04067-29AD-4FAF-966E-5DF4D53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6EB0-AE35-4CEB-9525-3CB77BC1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98B34-8AB9-48E4-A1B4-932D81F1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3F95D-BC28-40C0-9D1A-75B26943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3E832-F9E9-475C-9D20-0E39F2D5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31E54-E7E4-4FA7-8E31-6522EA483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D12BD-5FBE-4A88-AB10-AA0B54FAC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F5FB-1329-4B63-A03F-D5EB0337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8170-1CA2-4C41-8E25-ABBB56C62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7E77-3109-492F-BE59-8F038A35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79459-C51B-45D0-91EC-44DBEE34B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0B658-235A-486D-8F6A-52CDD50E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524C-C18E-49BA-AAAD-61913C84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424D3-C526-4075-8294-8184B920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010EA-B8DA-4DFB-912C-BA412995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41F51-5C59-4656-9219-AB813999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9DC80-BAEF-4630-A4C4-B53A94612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A6F90-D1E1-4156-B821-D79D910E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A2220-FBCF-45C8-95CB-6268B8C9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5EF-23EC-4F28-8C18-D2128D286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D4895-A334-4039-96EB-F8CD4647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62B4-3C3C-4B55-A117-35AAF4F3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9A0DD-260A-42C6-8CDA-B91ABBBB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3EC1-425D-4871-B1CC-1D132602D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49B3-EDA8-4561-BD0A-B2B5A7C85BCD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ECCB-0CD8-463C-A606-AC6F911C1217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C75C1-57D3-4A8F-B435-4353E7C676EA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F94B-8084-4932-B139-DA1660BAF2D2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E022A-5D96-46C8-8A46-A080E6AB6162}" type="slidenum">
              <a:rPr b="0" lang="en-A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714240" y="1428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ffff"/>
                </a:solidFill>
                <a:latin typeface="Franklin Gothic Book"/>
              </a:rPr>
              <a:t>Circle Sentencing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0" name="Picture 2" descr="http://2.bp.blogspot.com/_83S_FHFaXB0/Ro1C4YiVJAI/AAAAAAAAAAU/xc-SAkuZpr4/s320/Circle+Justice.jpg"/>
          <p:cNvPicPr/>
          <p:nvPr/>
        </p:nvPicPr>
        <p:blipFill>
          <a:blip r:embed="rId1"/>
          <a:stretch/>
        </p:blipFill>
        <p:spPr>
          <a:xfrm>
            <a:off x="2357280" y="3357720"/>
            <a:ext cx="46548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at is Circle Sentencing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lternative sentencing method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corporates Aboriginal community into sentenc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ims to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duce recidivism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Offer better offender and victim suppor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Give an alternative, more appropriate punishment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Who Participates?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ffender and their legal represent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t least 3 Aboriginal elders to which the offender has kinship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Magistrat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Prosecut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Aboriginal Project Office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Victim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Support person for victim and offender (not always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53440" indent="-25344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 (NSW)</a:t>
            </a: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Histor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Originated in northern Canada in 1991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ircle sentencing or similar process used in all Australian states and territori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nacted into NSW legislation in 2005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Case: Robert Bolt (2002)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‘’</a:t>
            </a: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You think the Aboriginal elders are going to be on your side because it’s black versus white. It was a bit of a shock. I thought if they are saying I am doing wrong I must be doing wrong."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9" name="Picture 4" descr="http://www.smh.com.au/ffxImage/urlpicture_id_1052885289747_2003/05/14/15nat_bolt_robert,0.jpg"/>
          <p:cNvPicPr/>
          <p:nvPr/>
        </p:nvPicPr>
        <p:blipFill>
          <a:blip r:embed="rId1"/>
          <a:stretch/>
        </p:blipFill>
        <p:spPr>
          <a:xfrm>
            <a:off x="2286000" y="2928960"/>
            <a:ext cx="457200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Refor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Criminal Procedures Act 1986 (NSW)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(Circle Sentencing) Regulation 2005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riminal Procedure Amendment (Circle Sentencing) Regulation 2009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Problems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NSW BOCSAR study in 2008 found circle sentencing had no effect on recidivism rat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dicates ineffectiveness in reducing indigenous disadvantage and achieving justice for indigenous offender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696464"/>
                </a:solidFill>
                <a:latin typeface="Franklin Gothic Book"/>
              </a:rPr>
              <a:t>Effectiveness and Efficiency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4240" y="1447920"/>
            <a:ext cx="8072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cognition of right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Community standards reflected in law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Resource efficienc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000000"/>
                </a:solidFill>
                <a:latin typeface="Perpetua"/>
              </a:rPr>
              <a:t>Ineffective in terms of: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Accessibil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Deterrence (and enforceability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Perpetua"/>
              </a:rPr>
              <a:t>Balance of individual and community rights (at times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10:35:18Z</dcterms:created>
  <dc:creator>Alexandra.Brassel</dc:creator>
  <dc:description/>
  <dc:language>en-US</dc:language>
  <cp:lastModifiedBy>Alexandra.Brassel</cp:lastModifiedBy>
  <dcterms:modified xsi:type="dcterms:W3CDTF">2010-03-15T11:03:38Z</dcterms:modified>
  <cp:revision>17</cp:revision>
  <dc:subject/>
  <dc:title>Circle Sentencing</dc:title>
</cp:coreProperties>
</file>