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1E0-56E4-4CCA-8C07-9088CB6A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DCC-28E3-4556-8D21-24CEEF86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E3B-D49C-45B4-A4AD-88DD0636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9C3-A4D5-4CF8-BA39-B5A5B84E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03A7-C4B4-441F-BBD1-E56AE273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0BBE-C965-4391-BB42-804FA51A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26C-CBD0-4399-AB70-EED09347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58C5-B47A-4734-8EBA-D39151D7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6F00-AF7D-49F8-AC58-8654240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71A8-07A7-4081-9A55-DD1F5237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BC0F-3811-42D2-880C-BF1F012C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7E9-B497-49F2-8B5B-5F118162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8E0F-BA8F-49A3-B3A7-0EEA38CC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7670-3502-461F-A464-20E870C6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529-C973-4AB3-A1D1-E36A64A9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0454-DABC-4F56-A9E9-F6A6F1D2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2B39-1AEE-444A-A3BF-2B0F2FC0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5AB0-0A39-425D-9A5A-6EDAD95A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2068-534C-4C45-9869-5DE46F64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F2AC-88D8-44A0-95E0-B35D1828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898FE-5790-4C1F-85BA-8AF88FB2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77174-7242-4801-B642-426C655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5D2-739D-442B-BB17-226FB96D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B7D3-0F6D-4811-9E83-AED9691B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B551-BDFA-49DE-B806-56027BF0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7A6D-2DE2-40FE-A6F0-BAE219EB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B6F4-8316-4161-B09D-613A7F2F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BFFE-AAB3-4D0F-9729-72E1DE6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BA3B-2D8F-4C83-81BD-AC4E523F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77D2-AF97-481A-933D-787B7758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5C5D-D09A-43DF-9D5B-B7A78461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AE66-9004-47F8-B552-06639438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20ED-1ABB-4384-8C15-7D06501F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B2E-6EDD-488B-8888-28EF2E4B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C363-F7A8-47F4-B557-0F65F7C1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49EDE-0B16-433D-91DE-EF8725E1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B5FB-E964-41BE-826C-5CF0F50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18FAF-2963-4936-9C08-1E3A3E8A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AD422-7B47-4A98-83D0-CC0CE22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30844-7258-4379-A1B9-24AE9B1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36B3-DBE2-437B-8DE4-20797209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A17D-A0B9-4662-866D-6C44E1F1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082E-62C4-4038-91FA-4B08EF05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78AD6-8EF8-4291-9086-549F9F8A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BF8-C96C-47B3-8BB2-CB9B80D8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7916-0D42-46BA-AE22-77A575DB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391F7-D2E7-4AB5-80F3-0DB3978E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6A54-E586-48AC-ABE2-8EAA496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2899-0019-4E2E-80B2-9AC7BA4D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AF16-E9F1-4C24-BBE9-8B1E6604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F418-7752-4B03-8B43-784638C0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E927-1C7E-4B4F-B2E9-9B89CF77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8816A-A16E-4FBC-BAF6-AB542C58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8B1E-F11C-4399-BD31-CF5BD234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F268-4ED8-439F-A13C-2A5E650E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CF1-4190-4589-B041-8434B99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20FD-F3AF-41FE-83C7-F3E89143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1DF-97F8-4975-B37D-23C0829A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9F3-A138-424E-B005-DB75371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333-EBD9-45BC-B377-F7FF1951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5C5C-FDA1-4C26-BFC7-75F9695E58A4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790D-A547-495F-AAB7-7E886C9F1DC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6BC9-4119-4E45-ADE7-4412CC4D67CC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DFA1-8FE8-4587-B02C-68312C19C8F3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4483-E8DF-4BE8-A2BC-CAFB535B3E9B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Circle Sentenc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2" descr="http://2.bp.blogspot.com/_83S_FHFaXB0/Ro1C4YiVJAI/AAAAAAAAAAU/xc-SAkuZpr4/s320/Circle+Justice.jpg"/>
          <p:cNvPicPr/>
          <p:nvPr/>
        </p:nvPicPr>
        <p:blipFill>
          <a:blip r:embed="rId1"/>
          <a:stretch/>
        </p:blipFill>
        <p:spPr>
          <a:xfrm>
            <a:off x="2357280" y="3357720"/>
            <a:ext cx="46548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at is Circle Sent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lternative sentencing method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corporates Aboriginal community into sentenc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ims t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duce recidiv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Offer better offender and victim suppor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Give an alternative, more appropriate punish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o Participat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ffender and their legal repres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t least 3 Aboriginal elders to which the offender has kinshi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agistr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Prosecu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boriginal Project Offic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Victim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upport person for victim and offender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 (NSW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Hist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riginated in northern Canada in 199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ircle sentencing or similar process used in all Australian states and territo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nacted into NSW legislation in 200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Case: Robert Bolt (2002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‘’</a:t>
            </a: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You think the Aboriginal elders are going to be on your side because it’s black versus white. It was a bit of a shock. I thought if they are saying I am doing wrong I must be doing wrong."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4" descr="http://www.smh.com.au/ffxImage/urlpicture_id_1052885289747_2003/05/14/15nat_bolt_robert,0.jpg"/>
          <p:cNvPicPr/>
          <p:nvPr/>
        </p:nvPicPr>
        <p:blipFill>
          <a:blip r:embed="rId1"/>
          <a:stretch/>
        </p:blipFill>
        <p:spPr>
          <a:xfrm>
            <a:off x="2286000" y="2928960"/>
            <a:ext cx="45720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Refor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riminal Procedures Act 1986 (NSW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Amendment (Circle Sentencing) Regulation 200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Probl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NSW BOCSAR study in 2008 found circle sentencing had no effect on recidivism ra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dicates ineffectiveness in reducing indigenous disadvantage and achieving justice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Effectiveness and Efficienc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4240" y="1447920"/>
            <a:ext cx="8072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cognition of righ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ommunity standards reflected in law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source efficienc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eterrence (and enforceabilit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Balance of individual and community rights (at tim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0:35:18Z</dcterms:created>
  <dc:creator>Alexandra.Brassel</dc:creator>
  <dc:description/>
  <dc:language>en-US</dc:language>
  <cp:lastModifiedBy>Alexandra.Brassel</cp:lastModifiedBy>
  <dcterms:modified xsi:type="dcterms:W3CDTF">2010-03-15T11:03:38Z</dcterms:modified>
  <cp:revision>17</cp:revision>
  <dc:subject/>
  <dc:title>Circle Sentencing</dc:title>
</cp:coreProperties>
</file>