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D902-2424-47B1-8658-9ABD1ADE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6855-459B-4D94-B83E-AE7857D7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7506-2D39-4941-9E73-53DDEB09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C45B-5758-4B5C-A1B4-7714A10C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5E21-8C0F-4E52-95D0-D7F43CAF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0151-F813-4535-BAC1-348DF1CD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E784-C76B-43B2-BFF2-6E76B2B4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33C2-8F1B-4FE0-9C38-980C31E9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884A-F22E-47CC-AD47-DA003BA0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ED54-49B5-4CE4-B131-F0958D83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E1E9-990B-4F47-BC43-4538FAF4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CACA-D5CC-4A53-A3F3-67B79BC4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23D7-F4E7-4CD9-960D-0AC352BD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53CE-8C0E-495A-A8CE-937C0A9D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757E-DBBE-49FB-8585-E0C610FB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13DF-9B7E-4907-9C89-01777C3D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BA80-513A-412B-8A95-02A5F5A5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A6C14-9B1B-44EC-9ED0-23A889F2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2BB9C-B380-4323-82B2-302663EE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A00F8-870E-4012-B013-89CC3A29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AB8F0-04C1-48EB-8CD4-EFD688D0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F9307-4909-4B26-8FDA-77B5111A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B115-DFF2-4576-A6CE-117E2DF9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BE263-D066-43D0-A7A5-6B3A7089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558A0-135B-4878-9CA7-18548BB4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4B1A5-E428-4424-82D4-8A0A9212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21A13-61EB-4061-9730-DD923C3A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603CD-4AE5-49B2-B621-46E5959C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E7E02-744E-4E77-9C54-A13862A9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25AF1-9BD0-43A3-96AC-5F5233C71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93744-EC2B-4E25-9018-A50CCB82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5814B-E5C2-479E-8BE7-B936C2DF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BB720-080B-4AD3-B114-30DCCE91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A1E6-73E7-4CF3-8F6A-AFB2DE25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B97C3-BE9C-4531-9D5A-BD84A2E3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BC349-7A32-4636-A650-B6713401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8CC29-13D8-4E0A-B42B-D59DA110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F4EC3-773D-4C1E-9EBE-A9BFD960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3BE02-3B8D-4D69-B142-4B98F468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8D24E-D0EE-4A29-8957-10E86A34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849B2-5A14-4E25-8487-6A64606A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08662-0646-43F0-8A20-946DBFEB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7857C-7D7B-4A25-9644-336CA9A5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8C64C-67EF-4D39-A8F0-BF640F2A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120C-8EDD-40E9-A190-346C5D04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C62E5-69EE-45E2-925A-EDE138ED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80212-E2D7-4DBB-8DBF-8BC79819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F2644-E924-4819-B654-DBDAB792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9CF2F-367A-425E-92FB-B84975F7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E9889-9321-4669-8154-F455B27A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DCBA2-2DF2-4FCB-9B79-EC058C2B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20B78-C951-4183-B144-F4D30DB4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FE353-6B29-4E47-8404-5875771E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35ACA-0AEF-4635-8AC3-1B3E9493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791CA-8B2F-4D89-85C7-2B10C356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FC82-2A07-48B0-99A9-66A222B8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557EC-2D91-4336-9B03-89E18CF1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4F70-0888-4F87-973C-F5D94A7E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FCE4-2D75-4DBD-8028-D19817E1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258C-BB26-485B-AA4A-A695FAC7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3DE5-701D-4253-967E-BC0220F0BFA1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E878-5DB0-4C27-8E80-16C701B4835E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113B-5FE1-48F7-8450-ED73F112C21E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6D09-FE62-4430-88A7-7DEA50D52B85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BC75-168E-4327-8158-ED9F376830B5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714240" y="1428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Franklin Gothic Book"/>
              </a:rPr>
              <a:t>Circle Sentenc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0" name="Picture 2" descr="http://2.bp.blogspot.com/_83S_FHFaXB0/Ro1C4YiVJAI/AAAAAAAAAAU/xc-SAkuZpr4/s320/Circle+Justice.jpg"/>
          <p:cNvPicPr/>
          <p:nvPr/>
        </p:nvPicPr>
        <p:blipFill>
          <a:blip r:embed="rId1"/>
          <a:stretch/>
        </p:blipFill>
        <p:spPr>
          <a:xfrm>
            <a:off x="2357280" y="3357720"/>
            <a:ext cx="465480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What is Circle Sentencing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Alternative sentencing method for indigenous offend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Incorporates Aboriginal community into sentenc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Aims to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Reduce recidivis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Offer better offender and victim suppor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Give an alternative, more appropriate punish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Who Participates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Offender and their legal represent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At least 3 Aboriginal elders to which the offender has kinshi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Magistra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Prosecuto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Aboriginal Project Offic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Victim (not alway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Support person for victim and offender (not alway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Perpetua"/>
              </a:rPr>
              <a:t>Criminal Procedure (Circle Sentencing) Regulation 2005 (NSW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Histor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Originated in northern Canada in 199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Circle sentencing or similar process used in all Australian states and territori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Enacted into NSW legislation in 2005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Case: Robert Bolt (2002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‘’</a:t>
            </a: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You think the Aboriginal elders are going to be on your side because it’s black versus white. It was a bit of a shock. I thought if they are saying I am doing wrong I must be doing wrong."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9" name="Picture 4" descr="http://www.smh.com.au/ffxImage/urlpicture_id_1052885289747_2003/05/14/15nat_bolt_robert,0.jpg"/>
          <p:cNvPicPr/>
          <p:nvPr/>
        </p:nvPicPr>
        <p:blipFill>
          <a:blip r:embed="rId1"/>
          <a:stretch/>
        </p:blipFill>
        <p:spPr>
          <a:xfrm>
            <a:off x="2286000" y="2928960"/>
            <a:ext cx="457200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Reform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Criminal Procedures Act 1986 (NSW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Criminal Procedure (Circle Sentencing) Regulation 2005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Criminal Procedure Amendment (Circle Sentencing) Regulation 2009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Problem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NSW BOCSAR study in 2008 found circle sentencing had no effect on recidivism rat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Indicates ineffectiveness in reducing indigenous disadvantage and achieving justice for indigenous offend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Effectiveness and Efficienc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14240" y="1447920"/>
            <a:ext cx="8072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Effective in terms of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Recognition of righ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Community standards reflected in law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Resource efficienc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Ineffective in terms of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Accessibilit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Deterrence (and enforceability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Balance of individual and community rights (at time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0:35:18Z</dcterms:created>
  <dc:creator>Alexandra.Brassel</dc:creator>
  <dc:description/>
  <dc:language>en-US</dc:language>
  <cp:lastModifiedBy>Alexandra.Brassel</cp:lastModifiedBy>
  <dcterms:modified xsi:type="dcterms:W3CDTF">2010-03-15T11:03:38Z</dcterms:modified>
  <cp:revision>17</cp:revision>
  <dc:subject/>
  <dc:title>Circle Sentencing</dc:title>
</cp:coreProperties>
</file>