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8DBD-9056-40EA-B3A4-F566D1587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DAE8-1FCE-4356-8D3F-BA7FFFA1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DF5A-09CF-43CC-B7D3-E23A56A06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E22C-D6F1-4797-B150-7CDE82AC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6EA9-A350-4E00-B21E-7333054CC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1BAA-013B-4922-99A9-0BE19BB92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5EF69-87E5-4C23-A4D6-5E149363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EDAF-80E2-4D94-AF8A-6B4079CF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AF81-0225-470C-A34D-275672E6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AD9A8-FDF5-4002-85EB-A82C27F2D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9D25E-9205-4E84-BD14-89B0A164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52D4-5ECA-46CC-8D43-E1886C31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514D-4016-4098-AA61-C2626D81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A50D-BE8B-4F4D-B65F-778289F5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444A-90E2-4AF9-B822-9AD03DAB4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8C935-8694-4821-B324-2514AE9A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E2D6A-BCA1-4FF7-881C-EE5AB09A5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609F1-3E12-4349-9E88-620EDCFC5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EF117-BD5D-4ED5-99AC-101196C85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BC5AA9-830E-47A5-A562-E81B86FB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9C048-56C6-4FE7-9B3C-044116D81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264F-97E1-4B24-B9E4-56AF03F17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57A9-2C81-4D32-B729-880A2ABF8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44BB5-2F71-4005-92E1-CE250E415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5D133-A46D-4E30-8E60-45578C3E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725D0-B8E9-4FD6-BFED-C7A488BE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1951-6415-4311-93F7-C34028ED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06D0D-65BB-4AD3-AFCB-EBAFFCFA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041C-9DDD-4D4B-BD8F-A5AB4E511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16067-264D-4397-9B34-BE02D441E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1A5F0-9FD8-4B6D-B0C2-123083DDD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DC5A7-A533-4932-B9EB-ED51450A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EDA40-0E5C-48CF-8FA2-D8F433C3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3AD9-F445-45C9-860C-52648DE4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6EF42-0F4A-4A14-8190-AF2A9FCA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C778-92F6-4E5A-BF27-397F0BDD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E449D-85C0-47D8-A8FC-D3DA3B2A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7AE66-6FE4-42F1-A5D7-DAB5AD8F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59281-220B-4E7A-83A4-CB0B063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FBBF0-714A-4B06-ABD0-180DC6801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CAE1B-1EE6-4E38-8EF5-9AEE1EF6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A5F6E-738B-46BB-AD74-E3CEC87C6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F220E-58E5-4CE4-9C3F-022B4C08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00C1-84C0-4EC1-BC5F-3C26F34EE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EEE-5677-4A0A-9933-BBD40B17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016928-47FA-4C0D-AB64-6F2763109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D0D0B-9463-4C36-9472-CF7833F9C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564D9-F44A-44B9-B596-FD1AE081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B702-D969-47EE-8B0A-F3B6D39D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C028F-635D-4DED-8330-E73AC085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096DE-3311-4495-A895-F0B64D4EB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74B2E-4E18-448C-A350-82993810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682ED-2001-49C1-A426-0BE8A116A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92EEA-2628-4917-976F-891BD561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42F66-1C70-4881-B6BA-EA6D47A1E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3B96-2790-4819-AA9C-1BBAB69A6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BF6DE-3B02-421A-A011-EE715FF4A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2E5D-7934-44E1-B169-B90D838D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D337-6C2C-4FB2-B07A-C26C025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3863-22F7-4AB2-88FB-29898FD5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67042-8554-409E-89FB-5B7147BE230E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F0231-1B35-456E-B414-02AC00C6D1B6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05DD-538F-4132-953F-493BCEA329F2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A5098-6EA9-4E86-AA00-7D62959A6B85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726D-CF96-4F14-AA92-7938A9E6B564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ircle Sentenc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2.bp.blogspot.com/_83S_FHFaXB0/Ro1C4YiVJAI/AAAAAAAAAAU/xc-SAkuZpr4/s320/Circle+Justice.jpg"/>
          <p:cNvPicPr/>
          <p:nvPr/>
        </p:nvPicPr>
        <p:blipFill>
          <a:blip r:embed="rId1"/>
          <a:stretch/>
        </p:blipFill>
        <p:spPr>
          <a:xfrm>
            <a:off x="2357280" y="3357720"/>
            <a:ext cx="465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at is Circle Sent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lternative sentencing method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corporates Aboriginal community into sentenc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ims t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duce recidiv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Offer better offender and victim suppo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ive an alternative, more appropriate punis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o Participat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ffender and their legal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t least 3 Aboriginal elders to which the offender has ki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agis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rosecu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boriginal Project Offic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Victim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pport person for victim and offender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 (NSW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riginated in northern Canada in 199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ircle sentencing or similar process used in all Australian states and terri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acted into NSW legislation in 200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Case: Robert Bolt (2002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‘’</a:t>
            </a: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You think the Aboriginal elders are going to be on your side because it’s black versus white. It was a bit of a shock. I thought if they are saying I am doing wrong I must be doing wrong."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4" descr="http://www.smh.com.au/ffxImage/urlpicture_id_1052885289747_2003/05/14/15nat_bolt_robert,0.jpg"/>
          <p:cNvPicPr/>
          <p:nvPr/>
        </p:nvPicPr>
        <p:blipFill>
          <a:blip r:embed="rId1"/>
          <a:stretch/>
        </p:blipFill>
        <p:spPr>
          <a:xfrm>
            <a:off x="2286000" y="2928960"/>
            <a:ext cx="4572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Refor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riminal Procedures Act 1986 (NS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Amendment (Circle Sentencing) Regulation 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NSW BOCSAR study in 2008 found circle sentencing had no effect on recidivism r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dicates ineffectiveness in reducing indigenous disadvantage and achieving justice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Effectiveness and Efficienc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447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cognition of ri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mmunity standards reflected in law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source efficie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terrence (and enforceabilit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alance of individual and community rights (at tim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0:35:18Z</dcterms:created>
  <dc:creator>Alexandra.Brassel</dc:creator>
  <dc:description/>
  <dc:language>en-US</dc:language>
  <cp:lastModifiedBy>Alexandra.Brassel</cp:lastModifiedBy>
  <dcterms:modified xsi:type="dcterms:W3CDTF">2010-03-15T11:03:38Z</dcterms:modified>
  <cp:revision>17</cp:revision>
  <dc:subject/>
  <dc:title>Circle Sentencing</dc:title>
</cp:coreProperties>
</file>