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0F9-74CD-4590-8B22-3B6D5736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317-B375-406D-AFFF-4D4DB966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DCB-4BA6-401E-95B7-16858F12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F4A-91C1-458C-B5C3-60CF62B9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2756-AE33-4A98-9BBA-D85CAB18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D61E-FCD2-4D98-987A-44E32072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B2DC-6388-424B-8B87-23A48EC1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5338-B5C7-4AC5-8FAA-9E677FAE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A95F-27F0-4CFB-9C4C-8C4F9A10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242D-070C-404D-AB9C-3A3F6AD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08A5-0054-4C6F-BC13-F02492A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8FD-E012-4675-8924-9C3CF367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F6BF-0548-4881-9E01-1481434B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C2B9-E730-48FD-BAB9-211C7610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E39C-A865-4393-9136-7C2B7EF3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8D9C-532B-488D-B1CF-24A7609F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1B53-82F0-46B8-87E0-CA5F21F8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1D01-9A67-4B23-A259-0C40FBB4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1476-B09B-4FE5-A0AF-185CD6AB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2ABE-5B48-4E47-B086-F1233994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DD13-A0D8-47DF-AF71-61568862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707A-61F5-49B8-B9F5-F3567AA0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A02-3F41-4D47-A298-13918910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B63F-C72B-42EA-8363-03214003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494F-5FFC-4965-9043-7B0DF9F0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8C51-AFB8-44C0-BB22-CB8F8EBA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F652E-DCB2-4F97-91E9-819BC03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938D-67AF-4D05-B591-A7E188FD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5F68-6F00-4623-8052-CEBF3AC0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775B-A1F7-4003-93F3-0B673CA7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0FE7-405D-44ED-B34C-FED67122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3D17-0C96-4CD6-8682-4E8D432A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F18D8-BE84-41C5-876C-BAA50822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18B-AAE0-4850-BF49-508FD43E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3F05-427C-49A5-8CD5-B12545EE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5E1A-6225-4914-B009-E34BC8DA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E9D81-98B6-4A56-84BA-5DA3BFDE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B99A3-01BA-48C9-9EEE-292D499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1008B-0B9E-4568-A037-DDDD6D83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7EA9-4222-4AF8-AB55-44139067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91293-CB15-4033-828C-6EC3D751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A049-5128-4BAA-9E9E-2D5A900D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E3446-E781-4A68-8C21-FE10C432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EA7F7-305F-444D-8D28-D753D846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2AD-8388-42BF-9383-E506B136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A7B8D-159F-44CA-AFB3-4515563C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13B45-02F4-4050-8F86-2959EC10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4A632-C47A-4DBF-BD72-4869A559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8F8C5-502C-48AA-971C-F0BEEEC9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8012E-B813-4FC4-9EAC-6AA3B912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7CE8-3066-4E3A-B01A-7604D197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23FE7-41E3-4ADF-AC16-7C21A78D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F9D86-F4C8-4D0C-A444-636E5647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3964F-AF58-485F-BDA6-CC2C7403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849B5-B5B6-41C8-9E67-1D377EBD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560-BC17-4B67-871E-BA82DC43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D51A2-1B0D-4DC0-9C06-27F02574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2CC-53B9-43C7-9388-A151AB05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431-7D2A-42E0-8402-C5F86CB5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112-A843-40A8-9F18-5135912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CD03-D724-4CA4-AD1B-B9AD01CF60D5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A97A-6663-4943-B5E8-3773B879F64C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82E4-5223-4795-834F-DE04CF1F5059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B5E5-5F83-4471-A41A-BD1C6339A9E3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0BB0-43CA-4013-A631-CA0FE5BD4121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Circle Sentenc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2" descr="http://2.bp.blogspot.com/_83S_FHFaXB0/Ro1C4YiVJAI/AAAAAAAAAAU/xc-SAkuZpr4/s320/Circle+Justice.jpg"/>
          <p:cNvPicPr/>
          <p:nvPr/>
        </p:nvPicPr>
        <p:blipFill>
          <a:blip r:embed="rId1"/>
          <a:stretch/>
        </p:blipFill>
        <p:spPr>
          <a:xfrm>
            <a:off x="2357280" y="3357720"/>
            <a:ext cx="46548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at is Circle Sentencing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lternative sentencing method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corporates Aboriginal community into sentenc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ims t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duce recidivis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Offer better offender and victim suppor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Give an alternative, more appropriate punish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o Participat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ffender and their legal repres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t least 3 Aboriginal elders to which the offender has kinshi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Magistr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Prosecut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boriginal Project Offic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Victim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upport person for victim and offender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 (NSW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Hist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riginated in northern Canada in 199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ircle sentencing or similar process used in all Australian states and territo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nacted into NSW legislation in 200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Case: Robert Bolt (2002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‘’</a:t>
            </a: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You think the Aboriginal elders are going to be on your side because it’s black versus white. It was a bit of a shock. I thought if they are saying I am doing wrong I must be doing wrong."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4" descr="http://www.smh.com.au/ffxImage/urlpicture_id_1052885289747_2003/05/14/15nat_bolt_robert,0.jpg"/>
          <p:cNvPicPr/>
          <p:nvPr/>
        </p:nvPicPr>
        <p:blipFill>
          <a:blip r:embed="rId1"/>
          <a:stretch/>
        </p:blipFill>
        <p:spPr>
          <a:xfrm>
            <a:off x="2286000" y="2928960"/>
            <a:ext cx="45720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Refor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riminal Procedures Act 1986 (NSW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Amendment (Circle Sentencing) Regulation 200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Proble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NSW BOCSAR study in 2008 found circle sentencing had no effect on recidivism ra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dicates ineffectiveness in reducing indigenous disadvantage and achieving justice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Effectiveness and Efficienc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14240" y="1447920"/>
            <a:ext cx="8072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cognition of righ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ommunity standards reflected in law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source efficienc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Accessi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eterrence (and enforceabilit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Balance of individual and community rights (at tim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0:35:18Z</dcterms:created>
  <dc:creator>Alexandra.Brassel</dc:creator>
  <dc:description/>
  <dc:language>en-US</dc:language>
  <cp:lastModifiedBy>Alexandra.Brassel</cp:lastModifiedBy>
  <dcterms:modified xsi:type="dcterms:W3CDTF">2010-03-15T11:03:38Z</dcterms:modified>
  <cp:revision>17</cp:revision>
  <dc:subject/>
  <dc:title>Circle Sentencing</dc:title>
</cp:coreProperties>
</file>