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EBC2-DF56-40BE-8EC8-0DA48B478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4E88-EAFF-4A80-A9CB-6B049D88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DEB1F2-5DC9-4052-BBE2-EB602D78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FEFA34-F288-4E03-A1FB-616081F9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41A48E-9A92-4C96-A104-EDE4A7C4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308E2F-DBEE-491A-AC0E-B95F54E8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37A40C-9FA6-4978-887C-6D417985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6A59FA-76B4-4BB1-BE53-FCE400F2A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43BEBA-B8F2-4506-8990-006AB23E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763BBE0-E64E-4829-BCDC-35C7461E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E1E46C-111A-467F-8BBA-3215761F2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391-3867-4DAF-8010-B2907FB6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56A4-EF58-4B94-AF0F-FAE3F4CE1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97505-F94A-4BAE-9888-9A2F61520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AFC3C-EE3C-41E5-8A26-89E0CAD2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03864-440E-462D-B223-DDDDAB632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EAE989-55E4-425B-9766-82627CACD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9A448A-E5D1-4B8A-9585-D801B418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BEDE5-C22C-41BE-8CB4-123F1A77F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FC6171-08C4-404D-91F3-068D6F36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EBED-ABD2-4EF0-A3F8-4E156AFE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17C6D-D0C7-4CC9-BC90-52C4C3B4F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90B7AE-57D2-4BBF-9E45-71B32D63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4FE227-9474-4A07-88BA-DB86FE73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6013E-0A6C-4E8F-9BA5-0C463FCA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5D7327-82B8-40BE-B2DB-DC6ED9713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7ADD7-BE19-41AF-8174-C1A4B88E7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3DCA4-C67C-44E6-8972-F80472C77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BA759-7DB8-44A2-AA96-9B4468B4E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256BD-84A8-4975-924B-84344430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7F352-AA81-416F-BF71-BD486AC5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DF2-9040-4381-9838-3C36CBB9E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DB196-7DBA-44A2-AC58-0D3D83CE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5BE1-C291-4BC8-8383-93B9F7F9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4352B-3D87-4C8C-8B48-7BB20F7FE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7227E-086C-4221-B7EB-A3DA0D11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EF820-CFBF-4CC2-8CCD-AE624B8E8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073F8-11EF-4D77-896A-29E2A384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F12DB-2271-4FFF-B626-3F206D0C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22169E-F4C3-4846-BA9A-C109706D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478443-2E38-4C7E-A35A-52E15A7C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683C30-C4D0-4F15-8235-67C140F82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0B69-DD44-49D4-84C6-B0D0C234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6C4380-07A1-490C-9491-71D81B01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8A9323-73B2-47B7-8D80-0FBD2F52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635724-095B-4552-92DF-8673F243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6F1DD9-AFAB-42AA-8AF7-343AD400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F381CC-5C22-436F-A93B-CE43C60F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DA8B9-7E64-412E-AA1A-3BBB6184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14307-F018-48E2-B60C-A8F08C9F9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BCB578-99C2-447C-B30F-391410C7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5E428F-D8FA-4B8F-AFE0-FB019DF1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BA87C-714B-4365-8B52-27A5EE67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DA96-2F08-4672-A4F0-961E50D4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431E5-5E4E-489B-8959-07CFEBE1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B91FB-F794-4FDA-96C8-5D84546C3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1EDE4C-ADD9-4418-8EF0-02328FDDC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779B3-2621-4498-ADE7-90EFFFEA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75AEC1-A81B-48D3-ACED-74DE40E2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7F721-AB76-4612-9262-481FF1A6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FDBF7-5A55-4E1D-A27C-B72EC0AD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E7D60-1B9B-4616-B800-7E44D677A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4C8F2-0023-4006-A899-64DDB7B9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CE71C-712B-44E0-833C-F8CA6B12D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745B-7DA7-4DA2-9774-E0BEA5028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0645-9176-446F-A6F1-08F605988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72563-D28A-434C-AFF4-CB810971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2B591-A948-4341-9D50-75E029328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8B605-C2F2-4A0F-9D07-9444F730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9AAD1-3AA3-4AE1-8DF5-BF71F813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116FC-24A8-4855-A4C6-A7090CF6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1BB1D-99C6-47F9-AF00-885142DBC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4588A-971D-4FC1-AFBA-4AC5A2A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A4C9D-D78B-479C-B9D5-5694391D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1C07B-A75E-498D-B80C-E8D1764B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965F-B9AD-4081-A0C6-305BD51D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C811E-FBEE-4747-B099-050D41BA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1B6C3-C0FE-4A62-9CD6-F668427B2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DFFCA-9861-462D-9391-13350FCD5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493694-29AA-4B26-8A47-2A78759E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BA135-CA43-4683-BAF6-0454CEC6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90B98-FB6B-45A1-AA84-234B71A0D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13089-229C-4A02-BD9A-51BA0D8C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2104E-BC76-490F-8499-DF2C5A69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7BCE2-0434-459A-9C86-6BE3783A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C9C59-43AE-4B57-95DA-AA829608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08B9-DAEE-4DD3-AF61-E66C338B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9EC9F-FCAE-485D-B408-6D25E5AC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8830C-A3E6-4B05-BFFA-7A2E1341D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1CB314-CF52-4EA4-93D0-3A9040DA6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942D76-3CC0-4DA1-8604-7DD1B4232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9B127-5E04-4321-A2C0-A54F3C889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A300B1-4C0C-4F44-8D53-79B97CFCB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6709D2E-271F-4C37-A4B2-E20B8F7C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A0E519-6E16-4748-AA8F-A37F23AEA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FDE5CB-DD0B-49A1-9AC6-A610F07AF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A7E31F6-779D-4E80-92B5-F3257A30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056A-D7FC-462A-95AD-D2A8C7E3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5656251-E24D-4D2F-89E6-381307CE6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1828A2-9A66-481C-84C7-99066CD5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8193DD1-E37A-45FA-878C-47D3A14C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061C68-CF57-436E-9E77-BBD82DBC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290FAEA-801A-4CD3-B50D-2E0073A0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73F2C3-06A7-41B7-95FB-0C204998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8565203-692A-49B7-BFD8-E274DB4B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5F931B-A79E-4B9C-B11B-B989B5EA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C7AEFC-83D6-49A1-8F42-1C8A9138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49AA50-CC6D-4716-9E71-984FB1E9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E4C2-B5E6-4BF9-ADD7-0341CDDE4F83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 Diagonal Corner Rectangle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Round Diagonal Corner Rectangle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29ABF-634A-4BCF-9829-75737EB4F228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91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D1B5-E00A-44A5-A9C4-CB28BC242113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9905-9517-4B87-B28E-C2897C1F7B56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178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11794-690F-4EDE-AAF3-E6D3A04594C8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23" name="Rectangle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4792-41F8-417A-9B88-776C733BBDCB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und Diagonal Corner Rectangle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Round Diagonal Corner Rectangle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Rockwell"/>
              </a:endParaRPr>
            </a:p>
          </p:txBody>
        </p:sp>
      </p:grpSp>
      <p:sp>
        <p:nvSpPr>
          <p:cNvPr id="269" name="Rectangle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261A-B4A4-44FC-A2A6-D2FE3C505C14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4f81bd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0477-0DB6-458A-B940-7E852C7A82A7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de8cd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de8cd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c0504d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9bbb5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a6afc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a6afc5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6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31E7A-7770-4371-A031-FA7ED7FEC225}" type="slidenum">
              <a:rPr b="0" lang="en-AU" sz="16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Katie McLeod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491680" cy="11588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e over-representation of Aboriginal people in the Australian criminal justice system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incorporate customary law into the sentencing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address some of the recommendations of the Royal Commission into Black Deaths in Custody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PROTECTION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ACCESSIBILITY &amp; EQUALIT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COGNITION OF INDIVIDUAL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RESOURCE EFFICIENCY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Rockwell"/>
              </a:rPr>
              <a:t>-TIME</a:t>
            </a:r>
            <a:endParaRPr b="0" lang="en-US" sz="4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COMMUNITY STANDARDS REFLECTED IN THE LAW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le 1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491680" cy="14745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Rockwell"/>
              </a:rPr>
              <a:t>BALANCE OF INDIVIDUAL &amp; COMMUNITY RIGHTS</a:t>
            </a:r>
            <a:endParaRPr b="0" lang="en-US" sz="6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5: Circle Sentencing Semina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First Indigenous magistrate’s court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held in South Australi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99: Model for Circle Sentencing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develop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Circle Sentencing pilot in Nowra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2002: Following success; 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Crimes Legislation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Amendment (Criminal Justice 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i="1" lang="en-AU" sz="2800" spc="-1" strike="noStrike" u="sng">
                <a:solidFill>
                  <a:srgbClr val="ffffff"/>
                </a:solidFill>
                <a:uFillTx/>
                <a:latin typeface="Rockwell"/>
              </a:rPr>
              <a:t>Interventions) Act 2002 </a:t>
            </a:r>
            <a:r>
              <a:rPr b="0" lang="en-AU" sz="2800" spc="-1" strike="noStrike">
                <a:solidFill>
                  <a:srgbClr val="ffffff"/>
                </a:solidFill>
                <a:latin typeface="Rockwell"/>
              </a:rPr>
              <a:t>passed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Up to 2009: Circle Sentencing implemented in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en locations across NSW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4f81bd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3T08:28:50Z</dcterms:created>
  <dc:creator>katie.mcleod</dc:creator>
  <dc:description/>
  <dc:language>en-US</dc:language>
  <cp:lastModifiedBy>katie.mcleod</cp:lastModifiedBy>
  <dcterms:modified xsi:type="dcterms:W3CDTF">2010-03-15T20:23:12Z</dcterms:modified>
  <cp:revision>5</cp:revision>
  <dc:subject/>
  <dc:title>CIRCLE SENTENCING</dc:title>
</cp:coreProperties>
</file>