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201F-7C3D-4D65-A051-0AD58AA9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F27-F21D-43DF-B900-80B053B5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371888-C22B-49FB-B2FF-32B46090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CD5FF7-AB9B-4209-B697-4697FA5C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D230CC-9D83-4FB7-B1A8-CC58C6C1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046122-D045-4FC6-81EC-C824BA90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33C787-F8CD-444D-81AB-97A88B42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1F2415-176E-4EDF-980A-09E3DCCA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B13B6A-F953-4915-B16C-7712D98C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E79DE4-3E6C-4140-A432-110DCBD7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1E425A-1CB8-4F95-A7CD-C3DB1B33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65CF-BD71-4917-A4BD-2F1AB9F3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452-3007-4F53-8DF0-9697051D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FB453-E7CA-45EE-BC3B-28B35F69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6CB99-F0FA-470A-84B3-ABB12BA5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5082B-2245-47CD-9F7A-F61CF62C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E4150-12DF-49DD-9CEB-6236F348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8B5A1-FCBB-4EDC-9316-96EE2937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691C5-A3CC-4822-82A4-267FCE82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7B1C2-2424-4B74-B2FB-B0863A9D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7AB-FC05-4A74-B214-052AD8BA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EAA9E-4C3C-4BB4-922A-051B91F3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796EC-11AB-4933-A98C-C2E13FF9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7F76C-159D-439A-8601-0C6A7555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141F1-8E80-4AE2-8300-0776B7AB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BFB39-C05B-429F-B864-8A532BD1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ECF5F-5ADE-4F02-91FA-214ADB3A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FFF07-1C9A-4F29-937A-6219D3D6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99C80-C3E4-4E1F-B07F-4C5C3542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78A17-AA7F-43CD-826A-C5DE29EA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EA113-110B-4814-8737-CBA74ACD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203-C37B-4C13-A8AB-A72EE27A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25986-E508-45D6-9A04-6EFCD1A7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865DA-3A50-411E-974F-2E389203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B38AE-DFDF-4E9D-968A-D27E5204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94723-9BAC-461B-B898-17C28F89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06FE3-0C3F-4155-BFC2-C4351FED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CC045-C520-48C4-9635-4E8E5A7B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95DBC-965F-4B7E-BBB1-8B6A6581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267B91-98F9-4DD2-A5F0-ED61D302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1E7EE-8316-4A86-BBED-DA596D50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B7E75F-961C-4D4F-84B7-D20E7406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3226-0B53-4CCB-8A7A-3BA3EB60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CB4AD-03C3-4B90-A1D0-0BDA573E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A94E76-0F61-4CB5-86A8-875DD75C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D097F-38C0-4AE8-85AD-F14E5BD6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7ED79A-CEBE-4EA9-932A-76C9C932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670CE4-799D-431F-98BB-7749F6C8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C74C4F-41E7-459F-BCC6-B023320D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819E62-3E1B-47A1-A8B6-421E2150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10870F-1E7B-4908-B7CA-840B753B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A6F392-0E8B-413E-8764-76683BE4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6DE51-3ECB-4D65-B4E0-0C4C124A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AE89-AE0A-42B6-90FC-246E310C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F064B-2DA6-4CA1-B7A7-5861DDD7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52E6F-E102-43CE-9E86-461C0052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A7098-8167-4309-8043-8E171297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CD3E9-CA05-477F-BCE5-3178966D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4E64A-075E-4182-A6F5-A87FEDD0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052A9-9AA5-49CB-B523-52124AD4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E294A-6D53-492B-A124-4420D94F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14191-9289-4B9C-BC3A-E04CE3DA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BC90D-A7BE-47BF-8D67-69639E99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6984D-17D1-4FE1-8797-4CF31DFB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521-0715-4A23-B333-D4E69F76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B567A-831F-4ADB-A140-6030EBAB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19808-396B-40B6-B6BD-37E99047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3F0B8-8050-4779-A4A2-A443A9F6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BC474-4133-4903-9455-47DB88CE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6A3B1-3B3B-4096-84BE-1B2CA55E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4B0B9-8848-4B81-BCD6-ED781D56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07C48-1BE7-42E5-9BF8-AB6534A3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84E44-DC3E-46BF-8603-672782F6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B4F66-0D36-4767-A70F-4B6F023C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B00A4-AA08-4F35-BF1F-B1D46278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0EC-3650-48BC-8653-59F1150C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E9910-EFC2-42A9-8751-4947D501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1795D-E3C2-4B40-A9AF-4F740C01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C00A7-E0E7-44B9-8179-CB4DD75A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03124-4897-4EA7-B141-926D01C4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4F411-9450-477E-996B-FE529BBA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DEA23-B225-46ED-A1CC-0076BB6E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7A89F-8B78-4400-80A3-AA2A2754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30946-042C-410E-9776-86AEF476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324F8-0966-4B29-A3A5-F91A4F4B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0EA0D-EA4A-497A-AA2E-C82F96E8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39FF-984A-4A85-A8D1-26E936BE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92FD5-C6B8-476B-96CC-533D1327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155E0-4515-43DA-8C8C-775377F6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7669E-F693-4EAB-BDE5-9A9DF0DC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DDB49-F20B-45E2-80F6-D7265C09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FC587-C15A-4719-AE33-E28E0B85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16FBDC-1CA6-4583-A39F-743646D0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3065AF-8A85-408A-8DDD-51ED0F9C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6AC953-8112-478D-A6A2-49507FEB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D30244-892F-4D2D-AE27-5D5F1D96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8D9A16-2091-4A67-9337-49A46E9D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EE7E-2EB8-4766-A717-D954103D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A12DE0-3A02-47A6-BD59-809A1DE0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39E6E2-49AD-4197-AFEE-0B20EA48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2B08FB-051B-4E78-9F30-923A09F3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229712-8B79-4AE3-AEB8-DA5C7316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B78DC7-969E-4AA5-8A92-ACD3BC56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445096-9824-4C8A-B249-F8B21C36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BD57FA-2008-48B5-A457-EB66C42C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E17B34-7292-487F-9C6F-BCCF3AD8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6D7724-8172-4BAC-9AA9-95EBC1F4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9D7F64-6D88-4746-A512-E24A5E76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164B-133C-4BD1-884F-1A2365F93848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2AB6-1DAF-41AF-A300-7B263AD83D5B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0860-CBD8-436F-9C70-9BD8D4C7CC93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4E70-7B30-4C2B-AD62-BF3607FF9E41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A8A0-F25E-4AA1-B899-287BF09B0D3C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0D26-31C3-454C-96AE-B52F39DF6C14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0BCD-C84E-48D5-95E1-342B9390D8D7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8A1B-459B-4F7E-82C2-AF4D26736041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1C23-576D-46DC-A5BA-8EA7C650B5B0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atie McLeo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over-representation of Aboriginal people in the Australian criminal justice system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corporate customary law into the sentencing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dress some of the recommendations of the Royal Commission into Black Deaths in Custody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PROTECTION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ACCESSIBILITY &amp; EQUALITY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RECOGNITION OF INDIVIDUAL RIGHTS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RESOURCE EFFICIENCY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Rockwell"/>
              </a:rPr>
              <a:t>-TIME</a:t>
            </a:r>
            <a:endParaRPr b="0" lang="en-US" sz="4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COMMUNITY STANDARDS REFLECTED IN THE LAW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BALANCE OF INDIVIDUAL &amp; COMMUNITY RIGHTS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95: Circle Sentencing Seminar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99: First Indigenous magistrate’s court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held in South Australi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99: Model for Circle Sentencing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evelop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2002: Circle Sentencing pilot in Nowr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2002: Following success; </a:t>
            </a:r>
            <a:r>
              <a:rPr b="0" i="1" lang="en-AU" sz="2800" spc="-1" strike="noStrike" u="sng">
                <a:solidFill>
                  <a:srgbClr val="ffffff"/>
                </a:solidFill>
                <a:uFillTx/>
                <a:latin typeface="Rockwell"/>
              </a:rPr>
              <a:t>Crimes Legislation 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 u="sng">
                <a:solidFill>
                  <a:srgbClr val="ffffff"/>
                </a:solidFill>
                <a:uFillTx/>
                <a:latin typeface="Rockwell"/>
              </a:rPr>
              <a:t>Amendment (Criminal Justice 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 u="sng">
                <a:solidFill>
                  <a:srgbClr val="ffffff"/>
                </a:solidFill>
                <a:uFillTx/>
                <a:latin typeface="Rockwell"/>
              </a:rPr>
              <a:t>Interventions) Act 2002 </a:t>
            </a:r>
            <a:r>
              <a:rPr b="0" lang="en-AU" sz="2800" spc="-1" strike="noStrike">
                <a:solidFill>
                  <a:srgbClr val="ffffff"/>
                </a:solidFill>
                <a:latin typeface="Rockwell"/>
              </a:rPr>
              <a:t>pass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Up to 2009: Circle Sentencing implemented in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en locations across NSW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8:28:50Z</dcterms:created>
  <dc:creator>katie.mcleod</dc:creator>
  <dc:description/>
  <dc:language>en-US</dc:language>
  <cp:lastModifiedBy>katie.mcleod</cp:lastModifiedBy>
  <dcterms:modified xsi:type="dcterms:W3CDTF">2010-03-15T20:23:12Z</dcterms:modified>
  <cp:revision>5</cp:revision>
  <dc:subject/>
  <dc:title>CIRCLE SENTENCING</dc:title>
</cp:coreProperties>
</file>