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C61C-0E0B-45EC-BABA-951DC59CE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A84-FFC8-404B-9089-C9146A3C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55E352-E95D-472B-B219-1A32D01B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C64C4D0-4B43-43A9-A948-A86E7B18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21315D-17CE-4794-A77F-2A790718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85CC5D-D388-44D0-BF54-5AE1454A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EC5213-E605-425B-BD0D-4414B1D9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D6888E-7188-4CDD-8347-9A0E01F6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1C8B86-A80D-4306-BFD6-19FE66B2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D8EF8D-F276-463A-A244-3681A83F0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51C492-2D8D-4686-9D5E-5C6FD08B3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0F21-405D-4901-95DD-CB91956B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C2B7-A1E4-4547-B315-AA72A397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3755C4-5100-45C6-8C97-AA6C8F7B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C38E1-5D4E-4D5B-AA68-4CC3F9CAD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617422-50E4-4331-8C32-8BF31BAD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BC1A7-68A1-442D-95FC-13238AF8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431B2A-F007-4A6B-A2F6-47FA03A4F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66FE95-9F7C-44CE-AD28-E421C291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D8907-AF2C-446C-8C07-AFF39CA80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021-9514-4EFD-825B-492C9E01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10102-F690-43C8-8F1B-03C3F5EA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5EEC2E-898A-4AED-AD65-F635E092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CB7A8-133F-46D8-918C-613800B5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75F530-7F71-46EB-9D2E-1D395DE3D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97782A-CB52-469C-A5B9-7F33FB8D7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020E9-8693-40E8-B7F0-D86AFAD40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C76C16-2CC1-4049-882A-7EF8BCB20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BFB79-3F7F-48BC-A019-02F509116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88627-C308-41A5-9085-B3A301042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96D84-3F22-4995-BC69-233625E5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838-DED2-4E86-AE6F-7F706BE6B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F6D26-1184-4D94-844A-8B3FF265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395DB-CE31-4A27-949F-835D1D82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58363-B0D6-4F89-8F59-0D399F6D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D061C-89D1-4E8D-9C34-44A9EA3B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BC76A-BDFB-4FA4-A515-577CD384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23613-055A-4D48-A73C-D71D8D6E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EE7F3-777D-4386-B833-705E8129B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D40C08-32E4-4F53-A665-3CA2151AC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1EFF95-A849-4E7C-8D29-42E7D629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89684A-B27E-4710-B990-C8A519829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AA32-0BF7-42A7-8E4B-0E451F45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F30D1A-6C20-4509-B5EB-973B0948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6F4A3C-EEE2-494F-B82C-B8C031E1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ECA502-6193-41EB-AC7A-31A1680F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C7A49A-31C2-40CB-BF69-2218731E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2CF7C9-C51B-4B09-8468-E32096AC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EEC592-8C85-41F1-9935-5F7DC3CD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B4FEDD-E62D-4CB5-81B6-AA6151DB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53954D-3AAB-44E3-B435-3792BD952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F2BB34-CAEC-4194-BB14-EB331F1FB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67A27-0CF1-47F3-9446-2127FF81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68AC-3A4F-4060-B525-49E17266C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A5AE7-DF0B-4FDA-886D-7E7DE5B5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78FA6-44DF-4E28-B6E5-2A373D0D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7C7C6-A515-4C6A-ADBD-B55694BD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4F9AB-EF33-4591-9895-5F36A27E8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201C6-D911-4616-9F11-15EE07EB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6EDB4-465F-4109-BF79-3D9955BA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80A434-8580-40E6-A06A-6BE224AD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3884F-5721-435E-816C-87A7C1C2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0148B-7166-441D-B9C4-0EC6A99DE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AD3AA-54D1-44B8-B7E1-73BB8D12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2A34-FCB2-4B9C-82DC-09558379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6ED8A-A3EE-46C2-859B-7CA13AE8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C3400-C031-46C0-9A15-DCB9351D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20117-13F8-4992-8078-BD66C0DB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D21AD-ED6E-4078-ACDC-2FDD244F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7EB8C-0648-4580-9A04-07149996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10065-F23A-4516-AFBC-E2750706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537C4D-9BA1-44E5-A501-5C86B219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9D481-2663-497A-872B-C8406176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C6F3E-DFB2-45E2-BA23-458F228F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5D872-D103-4559-A030-2FD381164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78F6-B597-4453-96FA-CA6BFF60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4D88B-2E90-409C-A865-656B30D20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A4924-8B96-4ABE-BC48-636B1901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424EA-1D8E-489D-B1E5-3F1DC4F1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A362AD-63F9-4084-BF97-03CBA6F04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267A08-C3B0-4175-B267-8312715E9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31BC45-6A0A-4710-9F60-96F3A00F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6BDA0-89D8-43B2-8F0C-1C81305A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7A67B-405E-40B0-A7A5-7F6D4E0E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CB258-E4F8-4BC8-A7E1-BC5922733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A6FAA-D376-491E-A859-45CDCF26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7B1F-FBD5-4FD3-B217-07FBD6E9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E6EA80-FBB5-4B6F-B43D-098B297F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8DB8D-217B-42F9-AB21-601D20EB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27973-B0CA-4DD7-942C-59A54DF54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7A6CE-7E5C-4990-85AE-0A6C83DC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FCD91-5D11-4AD2-93B1-5F6052C4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7D71944-6B91-4902-B359-9E315E32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DEC9FA-383F-47B5-95B8-11E72934F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6B6BF8-73B6-4C82-ADC3-9A2311F9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031F1C-F714-4ED9-97FA-2D8598BB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34412F-AE83-469C-A6F0-8D9603762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073C-1542-4308-BFA9-EF2A2962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1915A9-6520-46A1-97CD-A1F9EA0F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156482-332A-4DE1-8D00-9DE13A2F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3F452B-5090-4EDB-941C-BF4082C0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93D2C9-26E5-4F41-83E3-63511762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EBE8DA-207B-4B02-A7B3-67D6BDDC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71CC4C-A423-4D34-9870-3CC00E939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C6ED17-7D68-4851-97B7-32B0AEAE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FE52342-E9A1-4F8E-975B-8581ECDAA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F58BD1-FA0F-48F6-944E-9985CBD90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90E255-8EEF-469A-9F94-8BDF4877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1D6FF-2DF0-4E6A-A57C-E8048C4B792E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8158-3464-42CB-AF02-A9AE885C03EE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CC4C5-E12B-4256-86C1-DB113A545D43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A7FF-72EE-4DB0-B156-CA46396C7910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66BAD-A9EC-45D1-BF31-0C153F42688E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2DDDE-E707-44F5-9911-0196E15FB5FC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E4BF-D044-402B-BD0E-26EF2D5E2409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D572-C93E-4533-924C-F89AFC36C5A8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FA6C-C0BA-4BC5-A369-DF2473D5ED18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atie McLeo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over-representation of Aboriginal people in the Australian criminal justice system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corporate customary law into the sentencing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dress some of the recommendations of the Royal Commission into Black Deaths in Custody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PROTECTION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ACCESSIBILITY &amp; EQUALITY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RECOGNITION OF INDIVIDUAL RIGHTS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RESOURCE EFFICIENCY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Rockwell"/>
              </a:rPr>
              <a:t>-TIME</a:t>
            </a:r>
            <a:endParaRPr b="0" lang="en-US" sz="4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COMMUNITY STANDARDS REFLECTED IN THE LAW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BALANCE OF INDIVIDUAL &amp; COMMUNITY RIGHTS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95: Circle Sentencing Seminar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99: First Indigenous magistrate’s court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held in South Australi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99: Model for Circle Sentencing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evelop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2002: Circle Sentencing pilot in Nowr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2002: Following success; </a:t>
            </a:r>
            <a:r>
              <a:rPr b="0" i="1" lang="en-AU" sz="2800" spc="-1" strike="noStrike" u="sng">
                <a:solidFill>
                  <a:srgbClr val="ffffff"/>
                </a:solidFill>
                <a:uFillTx/>
                <a:latin typeface="Rockwell"/>
              </a:rPr>
              <a:t>Crimes Legislation 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 u="sng">
                <a:solidFill>
                  <a:srgbClr val="ffffff"/>
                </a:solidFill>
                <a:uFillTx/>
                <a:latin typeface="Rockwell"/>
              </a:rPr>
              <a:t>Amendment (Criminal Justice 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 u="sng">
                <a:solidFill>
                  <a:srgbClr val="ffffff"/>
                </a:solidFill>
                <a:uFillTx/>
                <a:latin typeface="Rockwell"/>
              </a:rPr>
              <a:t>Interventions) Act 2002 </a:t>
            </a:r>
            <a:r>
              <a:rPr b="0" lang="en-AU" sz="2800" spc="-1" strike="noStrike">
                <a:solidFill>
                  <a:srgbClr val="ffffff"/>
                </a:solidFill>
                <a:latin typeface="Rockwell"/>
              </a:rPr>
              <a:t>pass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Up to 2009: Circle Sentencing implemented in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en locations across NSW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8:28:50Z</dcterms:created>
  <dc:creator>katie.mcleod</dc:creator>
  <dc:description/>
  <dc:language>en-US</dc:language>
  <cp:lastModifiedBy>katie.mcleod</cp:lastModifiedBy>
  <dcterms:modified xsi:type="dcterms:W3CDTF">2010-03-15T20:23:12Z</dcterms:modified>
  <cp:revision>5</cp:revision>
  <dc:subject/>
  <dc:title>CIRCLE SENTENCING</dc:title>
</cp:coreProperties>
</file>