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92B-A78F-40E9-B536-0255B9E3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37A-24A9-45BB-BEB1-000BA6C9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67E49A-3BA9-4EC7-A319-27EB1B28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4BDE82-D971-435F-A51D-D355BCD9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F1C613-4F97-4E78-9AC3-EE722120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B34737-87D7-41D8-8BF4-594DDD9C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9427E0-D230-4978-AC60-EC78277E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DAB87D-D4A0-4D51-B8AE-E1640358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F097FB-7836-40F1-95A3-3D335711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D9D1DB-36C4-4B2D-ADEC-3306424C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C3372E-6AC0-459D-8719-CDACD8AF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FB7-090D-4DF6-A3FC-11D22708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A4B-AD5C-45DA-A6BD-A47412D3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B8F1E-3425-4AD7-AA64-4C6CAB46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A1B2F-54A5-43AB-B883-5D0F8348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15114-4641-4BF2-9BDC-40E2A08B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CE961-AAB8-4BAC-AD4C-E7F7A43D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CBD25-7872-407E-B681-3BAB8C49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5979B-5295-4593-AE2C-1B1A17B8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AD2BB-CCA5-44CE-8677-F4986A48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E84-768D-4E1F-BB17-3E967E25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10C62-0A6E-4059-BCB4-21E7F30C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07834-C12F-4D7D-A928-B29CF9C8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27AF4-51FD-49CB-8828-D8B97D9E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8B60F-044A-42AA-8889-30D4C5FC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48DD5-FEDA-42B3-A26E-539ECF48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078BD-6239-492F-81ED-369964D0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2390C-D314-4EAB-9DB7-C89F4BB9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1FA2-9B10-4B69-B715-FA123547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316FC-77DC-4956-8286-7E41A4AC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D0753-FFF4-4922-A771-A4B81A1D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4A2-DB5A-4AF7-91DD-842BF206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6B0BA-E487-468D-9CF3-FD023E46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BD946-049E-44E3-AD01-F9386375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1ABF-C8E6-4B83-B8C1-24DFE0BF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07529-CD77-4803-8BB6-99E06192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6E78C-F6F3-4F66-9181-0175474D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D7EC5-BB0C-46A4-82AB-8755A528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2D896-43CC-44E1-81D7-2BF392C4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68FAC1-B9F0-4284-B07A-8B9B6F64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29416-C0AF-4E4E-835B-383C5FDB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D9E26-81E6-4303-9346-8387DA4E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EF7-7DE7-40CF-B966-F98B028D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1CD68-2F0A-4CE3-9D9D-361422F0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05165-C12A-424C-8193-5735F23F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F3B0F-845C-4175-BF84-C1029E65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E7142-AB8E-4591-B6E7-A898BF19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D79F4-BEEC-48FA-96C5-36C34EED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3CE26-2804-4253-BF15-22A4A906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42971F-5DA0-465A-BE8E-7D2AB535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A1188-EB88-425F-A152-C9388D5A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18F076-8344-4D13-9354-B9F9E9B5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505EF-A90E-4A36-B968-D4235546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3633-603F-4987-884A-61579806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5B56A-483F-45B9-A713-C18B725D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CA8B0-8840-4B5A-9B8F-10DFB024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51123-962E-4541-85A6-6722B363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86353-0CFB-40EE-AE04-4B6BFE2A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8E76D-4544-4B0F-8578-29F6AE51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B57A9-E965-4319-BE56-5D451A57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C0CFC-781C-4E69-BF18-291A5F8C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58B94-0BBC-4A6B-B0B0-88B15675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C5093-2379-4AA0-A51E-A39889F6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9BF85-6A46-4501-8CCE-6647AF0C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CF7-702B-40CF-BD4F-C5577C5A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FB6EB-EC29-48A1-8495-D92B9EEA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1201B-CB1F-4087-B6E8-7C7DB13B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8A3FC-EDAC-434B-932A-097A7F18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5E3EA-6994-4BBB-AF6B-19F63F3D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0F600-34B6-4721-980D-9AE506F1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B1BFB-8980-43D5-849E-FBDF3779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4D75D-2117-43F7-A611-CA590FFE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A164B-14A2-4E8D-9CDA-B6E6AF82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8E380-515C-48BB-9117-00F1BD08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1D795-1474-4CD7-B2FF-D39A93BC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FBE-19BA-4622-86FC-5AECC5EF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8384D-4289-4C1B-9D1F-A206430D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94352-7883-4632-B48B-F5D1736B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584BE-282A-4300-A92C-84ACE9FD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89286-AA76-4AAD-A8C8-942D1C00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AD7A2-9DF4-4A6B-AB11-FFF6C3CE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38FC9-D1FF-4C14-BFE6-B594FE5B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7A279-A9CA-4CF4-9FA6-A6747A2A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F780F-3E85-4203-9301-3A5AE499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D4EA1-0612-4D38-A587-428062D1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20CD1-2311-431E-814D-AA89D60C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21B-5E04-419D-B212-7FBF7860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85624-243C-43EB-BD06-54E3072F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4A3F0-6FFF-4B2D-83EF-E51F9F35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27A49-7377-4540-B22F-C86A38CF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289CE-A342-4AC9-A9D7-63470CA0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97D2C-77E0-4BD1-9C2F-7575856F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6A13A0-8614-4187-A5C9-54125BB2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5B1ECD-ED52-4ECF-9338-E3F61E30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60C518-B191-4482-8DE2-12155BA1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3A2C23-3529-4505-A6B5-A78022B4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875A0A-B63A-47E2-9A3F-B4E39797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CEA-7C9C-4DF6-B8D0-9ECF81A8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ED85D3-246D-43CE-93E6-A6B0119A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8D8CD6-9EE5-4F03-84A0-DCFC2C4A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DF1AFA-E601-4621-A534-D1A68181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63C5DB-B7AD-479B-BF19-9DCB75AA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670967-EEBA-4704-A091-8A6CC617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C7BF11-BCD9-4344-9477-7F8C6542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8E39A2-80F1-484F-B531-F5F16BB9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4E4408-5F54-4809-A0DD-4FAB5B2B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98D5F1-ADB3-4529-BF3F-C666B8B4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6DB743-7056-4A06-B1B9-BEFEF13B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F637-A5C9-4907-BDEE-45797C47FF89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63C9-D72E-4D8D-B597-322D09C13833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6E22-04DA-4C48-ABF8-D62C126E3C50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FEA3-0EC2-4BD7-9B61-19A7C5FFB0A1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1F42-3249-4B09-81D6-1A8E5B49BEDA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9B60-8818-4D5E-B371-FD5E9E129BE5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7D1A-A747-4FE1-8ED5-7A0AE764C50B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361C-CB54-476D-8B47-F000D5636094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3C3C-03CD-4E03-B4F4-D5DE3303794B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atie McLeo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over-representation of Aboriginal people in the Australian criminal justice system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corporate customary law into the sentencing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dress some of the recommendations of the Royal Commission into Black Deaths in Custody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PROTECTION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ACCESSIBILITY &amp; EQUALITY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RECOGNITION OF INDIVIDUAL RIGHTS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RESOURCE EFFICIENCY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Rockwell"/>
              </a:rPr>
              <a:t>-TIME</a:t>
            </a:r>
            <a:endParaRPr b="0" lang="en-US" sz="4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COMMUNITY STANDARDS REFLECTED IN THE LAW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BALANCE OF INDIVIDUAL &amp; COMMUNITY RIGHTS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5: Circle Sentencing Seminar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9: First Indigenous magistrate’s court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eld in South Australi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9: Model for Circle Sentencing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evelop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2002: Circle Sentencing pilot in Nowr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2002: Following success; 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Crimes Legislation 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Amendment (Criminal Justice 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Interventions) Act 2002 </a:t>
            </a:r>
            <a:r>
              <a:rPr b="0" lang="en-AU" sz="2800" spc="-1" strike="noStrike">
                <a:solidFill>
                  <a:srgbClr val="ffffff"/>
                </a:solidFill>
                <a:latin typeface="Rockwell"/>
              </a:rPr>
              <a:t>pass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p to 2009: Circle Sentencing implemented in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en locations across NSW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8:28:50Z</dcterms:created>
  <dc:creator>katie.mcleod</dc:creator>
  <dc:description/>
  <dc:language>en-US</dc:language>
  <cp:lastModifiedBy>katie.mcleod</cp:lastModifiedBy>
  <dcterms:modified xsi:type="dcterms:W3CDTF">2010-03-15T20:23:12Z</dcterms:modified>
  <cp:revision>5</cp:revision>
  <dc:subject/>
  <dc:title>CIRCLE SENTENCING</dc:title>
</cp:coreProperties>
</file>