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487B2-90DC-4036-AB49-D2FFB1CC27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9079C8-4075-4E80-93B8-49A4DBD04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77EC1-97D8-4F15-B081-4F1CC1B8DB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7B5AA-2E81-4D9C-A0C6-CE55F8E73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1D4B7-9593-46F3-8649-0B588EAEE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435D0-F82C-4118-A5C7-E717285C2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39DF8-1E8B-4046-AFA1-404E87C486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4821A-F711-47BF-A411-A595501527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F0F3F-488C-4636-9BE9-A278039E28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A80BA-1747-4506-A471-947FA77AD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F9982-3FFD-47CD-B378-B84C3CAC2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C21F9-2E4E-4373-8890-6F41ACD337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5F0AFE-16FA-4B84-9F2F-2922A3558FC1}" type="slidenum">
              <a:rPr b="0" lang="en-US" sz="1200" spc="-1" strike="noStrike">
                <a:solidFill>
                  <a:srgbClr val="ffffff"/>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Monotype Corsiva"/>
                <a:ea typeface="Monotype Corsiva"/>
              </a:rPr>
              <a:t>Victims Rights </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ffffff"/>
                </a:solidFill>
                <a:latin typeface="Calibri"/>
              </a:rPr>
              <a:t>By Caitlin stocker </a:t>
            </a:r>
            <a:endParaRPr b="0" lang="en-US" sz="1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 name="Content Placeholder 5" descr="Wictimsrights.pdf"/>
          <p:cNvPicPr/>
          <p:nvPr/>
        </p:nvPicPr>
        <p:blipFill>
          <a:blip r:embed="rId1"/>
          <a:srcRect l="-36272" t="0" r="-36272" b="0"/>
          <a:stretch/>
        </p:blipFill>
        <p:spPr>
          <a:xfrm>
            <a:off x="-1206360" y="-511200"/>
            <a:ext cx="10350360" cy="776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Bordeaux Roman Bold LET"/>
                <a:ea typeface="Bordeaux Roman Bold LET"/>
              </a:rPr>
              <a:t>Victims Rights Act Amendment Bill 2002</a:t>
            </a:r>
            <a:endParaRPr b="0" lang="en-US" sz="4400" spc="-1" strike="noStrike">
              <a:solidFill>
                <a:srgbClr val="ffffff"/>
              </a:solidFill>
              <a:latin typeface="Calibri"/>
            </a:endParaRPr>
          </a:p>
        </p:txBody>
      </p:sp>
      <p:sp>
        <p:nvSpPr>
          <p:cNvPr id="4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a) require victims of crime to be informed in a timely manner of certain aspects of criminal proceedings against an accused person,</a:t>
            </a: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ffffff"/>
              </a:solidFill>
              <a:latin typeface="Calibri"/>
            </a:endParaRPr>
          </a:p>
          <a:p>
            <a:pPr marL="343080" indent="-343080">
              <a:lnSpc>
                <a:spcPct val="80000"/>
              </a:lnSpc>
              <a:spcBef>
                <a:spcPts val="75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ffffff"/>
                </a:solidFill>
                <a:latin typeface="Calibri"/>
              </a:rPr>
              <a:t>(b) require victims of a serious crime that involves sexual violence, or that results in actual bodily harm, mental illness or nervous shock to the victim, to be consulted before any decision of the prosecution to modify or not to proceed with charges against the accused person is taken. Outline of provisions</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Bordeaux Roman Bold LET"/>
                <a:ea typeface="Bordeaux Roman Bold LET"/>
              </a:rPr>
              <a:t>Girl Hopes Court Win Helps other Victims</a:t>
            </a:r>
            <a:endParaRPr b="0" lang="en-US" sz="4400" spc="-1" strike="noStrike">
              <a:solidFill>
                <a:srgbClr val="ffffff"/>
              </a:solidFill>
              <a:latin typeface="Calibri"/>
            </a:endParaRPr>
          </a:p>
        </p:txBody>
      </p:sp>
      <p:sp>
        <p:nvSpPr>
          <p:cNvPr id="47" name=""/>
          <p:cNvSpPr txBox="1"/>
          <p:nvPr/>
        </p:nvSpPr>
        <p:spPr>
          <a:xfrm>
            <a:off x="457200" y="1600200"/>
            <a:ext cx="8229600" cy="4525920"/>
          </a:xfrm>
          <a:prstGeom prst="rect">
            <a:avLst/>
          </a:prstGeom>
          <a:noFill/>
          <a:ln w="0">
            <a:noFill/>
          </a:ln>
        </p:spPr>
        <p:txBody>
          <a:bodyPr anchor="t">
            <a:normAutofit/>
          </a:bodyPr>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Young girl who cannot be named was bullied since the age of 7 to the age of 15</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They physically and mentally abused the young girl. Such as pinched, punched and threatened her life, </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As a result she now suffers with post traumatic stress syndrome.</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Her perpetrators were seen to be to young to have criminal intent.</a:t>
            </a: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ffffff"/>
                </a:solidFill>
                <a:latin typeface="Calibri"/>
              </a:rPr>
              <a:t>Therefore making her ineligible for victims compensation. </a:t>
            </a:r>
            <a:endParaRPr b="0" lang="en-US" sz="2100" spc="-1" strike="noStrike">
              <a:solidFill>
                <a:srgbClr val="ffffff"/>
              </a:solidFill>
              <a:latin typeface="Calibri"/>
            </a:endParaRPr>
          </a:p>
          <a:p>
            <a:pPr marL="343080" indent="-343080">
              <a:spcBef>
                <a:spcPts val="601"/>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alibri"/>
              </a:rPr>
              <a:t>The young girl’s victims rights were abused as she was not treated with courtesy, compassion and respect. </a:t>
            </a:r>
            <a:endParaRPr b="0" lang="en-US" sz="24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ffffff"/>
              </a:solidFill>
              <a:latin typeface="Calibri"/>
            </a:endParaRPr>
          </a:p>
          <a:p>
            <a:pPr marL="343080" indent="-343080">
              <a:spcBef>
                <a:spcPts val="5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100" spc="-1" strike="noStrike">
              <a:solidFill>
                <a:srgbClr val="ffffff"/>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11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4b6d"/>
                </a:solidFill>
                <a:latin typeface="Bordeaux Roman Bold LET"/>
                <a:ea typeface="Bordeaux Roman Bold LET"/>
              </a:rPr>
              <a:t>Thankyou for Listening</a:t>
            </a:r>
            <a:endParaRPr b="0" lang="en-US" sz="4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11:36:41Z</dcterms:created>
  <dc:creator>caitlin stocker</dc:creator>
  <dc:description/>
  <dc:language>en-US</dc:language>
  <cp:lastModifiedBy>caitlin stocker</cp:lastModifiedBy>
  <dcterms:modified xsi:type="dcterms:W3CDTF">2010-03-15T12:25:00Z</dcterms:modified>
  <cp:revision>2</cp:revision>
  <dc:subject/>
  <dc:title>Victims Rights </dc:title>
</cp:coreProperties>
</file>